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76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30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192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376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30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ffff"/>
                </a:solidFill>
                <a:latin typeface="Tahoma"/>
              </a:rPr>
              <a:t>Multi-Kar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" name=""/>
          <p:cNvGraphicFramePr/>
          <p:nvPr/>
        </p:nvGraphicFramePr>
        <p:xfrm>
          <a:off x="2019240" y="1523880"/>
          <a:ext cx="510552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1523880"/>
                    <a:ext cx="51055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un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ahoma"/>
              </a:rPr>
              <a:t>Ein gelber und ein roter Kara stehen am Anfang eines Tunnels. Beide sollen bis zum Baum am Ende des Tunnels laufe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ahoma"/>
              </a:rPr>
              <a:t>Beachte: Es ist nicht gesagt, dass der rote Kara vor dem gelben startet. Auch die Prioritäten sind nicht festgeleg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19320" y="4648320"/>
          <a:ext cx="5410080" cy="18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5410080" cy="18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ffffff"/>
                </a:solidFill>
                <a:latin typeface="Tahoma"/>
              </a:rPr>
              <a:t>Gegenverkeh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ahoma"/>
              </a:rPr>
              <a:t>Ein violetter (links) und ein roter Kara (rechts) laufen wie in der Abbildung gegeneinander. Es soll verhindert werden, dass die beiden im mittleren Abschnitt ineinanderpralle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14600" y="3962520"/>
          <a:ext cx="452772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45277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inie mit Kleeblättern füll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ahoma"/>
              </a:rPr>
              <a:t>Mehrere Karas stehen zwischen zwei Bäumen. Der Bereich zwischen den beiden Bäumen soll mit Kleeblättern gefüllt werden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Tahoma"/>
              </a:rPr>
              <a:t>Man weiss einzig, dass die Karas in Richtung von dem einen oder anderen Baum stehe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5454720"/>
          <a:ext cx="85345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454720"/>
                    <a:ext cx="85345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5:10:36Z</dcterms:created>
  <dc:creator>Tobias Schlatter</dc:creator>
  <dc:description/>
  <dc:language>en-US</dc:language>
  <cp:lastModifiedBy>MatthiasDreier</cp:lastModifiedBy>
  <dcterms:modified xsi:type="dcterms:W3CDTF">2006-04-25T19:29:24Z</dcterms:modified>
  <cp:revision>67</cp:revision>
  <dc:subject/>
  <dc:title>PowerPoint-Präsentation</dc:title>
</cp:coreProperties>
</file>