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76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230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192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376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230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994120" y="1452600"/>
            <a:ext cx="4290840" cy="47959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das Weltfenster von MultiKa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"/>
          <p:cNvSpPr/>
          <p:nvPr/>
        </p:nvSpPr>
        <p:spPr>
          <a:xfrm>
            <a:off x="3944880" y="2263680"/>
            <a:ext cx="1963800" cy="371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80320" y="2266920"/>
            <a:ext cx="382320" cy="316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2457360"/>
            <a:ext cx="133812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7307280" y="2427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73760" y="225756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eitanzei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1704960"/>
            <a:ext cx="2512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Ausführungsreihenfolge mittels Drag&amp;Drop und Prioritäten mittels Anklicken veränder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Karas werden mittels Drag&amp;Drop in die Welt gesetz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08400" y="1523880"/>
            <a:ext cx="3652920" cy="487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das Programmfenster von MultiKa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6151680" y="3095640"/>
            <a:ext cx="1369800" cy="1284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0560" y="2224080"/>
            <a:ext cx="1396800" cy="324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95840" y="2408400"/>
            <a:ext cx="428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5200" y="3573360"/>
            <a:ext cx="21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30040" y="2120760"/>
            <a:ext cx="27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Anzuzeigenden Autom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durch Anklicken auswäh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2767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Erweitertes Automatenmenü durch Rechtsklick öff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Zustände erzeugen/bearbeite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74960" y="1281240"/>
          <a:ext cx="4033800" cy="39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1281240"/>
                    <a:ext cx="4033800" cy="39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flipV="1">
            <a:off x="4683240" y="4344840"/>
            <a:ext cx="0" cy="1123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65360" y="3781440"/>
            <a:ext cx="20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en mitte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g&amp;Drop au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ierkorb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97080" y="4211640"/>
            <a:ext cx="50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88400" y="5427720"/>
            <a:ext cx="24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ue Sensoren er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Sensoren erstelle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27320" y="1800360"/>
          <a:ext cx="2666880" cy="30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7320" y="1800360"/>
                    <a:ext cx="266688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005360" y="2325600"/>
            <a:ext cx="1695240" cy="324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76640" y="1992240"/>
            <a:ext cx="1380960" cy="247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3680" y="3097080"/>
            <a:ext cx="809640" cy="590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57800" y="3011400"/>
            <a:ext cx="1162080" cy="1000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5000" y="24382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17560" y="22860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Name des Sen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600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3760" y="1042920"/>
            <a:ext cx="271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ählen welche Art Sen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rstellt werden s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6240" y="3406680"/>
            <a:ext cx="43848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984400"/>
            <a:ext cx="241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Voransicht des Sensor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Elemente mitte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Drag&amp;Drop verschi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562360" y="35053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02800" y="3100320"/>
            <a:ext cx="209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mente mitt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g&amp;Drop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ransicht einfü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108320" y="4035240"/>
            <a:ext cx="1800" cy="101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59760" y="5119560"/>
            <a:ext cx="290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Elemente aus der Vorans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mittels Drag&amp;Drop au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Papierkorb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09:49:01Z</dcterms:created>
  <dc:creator>Markus Brändle</dc:creator>
  <dc:description/>
  <dc:language>en-US</dc:language>
  <cp:lastModifiedBy>MatthiasDreier</cp:lastModifiedBy>
  <dcterms:modified xsi:type="dcterms:W3CDTF">2006-04-25T19:29:43Z</dcterms:modified>
  <cp:revision>63</cp:revision>
  <dc:subject/>
  <dc:title>Getting started: das Hauptfenster von Kara </dc:title>
</cp:coreProperties>
</file>