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nergiereiche Elektronen erzeugen eine Spannu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llen sie kontinuierliche genutzt werden, müssen sie abgeleitet werden können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s erfordert elektrische Leitfähigkei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Übergang zur Solarzelle: Bei Halbleitern ist das ∆E in einem Bereich, der die Anregung von Elektronen durch das sichtbare Licht ermöglich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lerdings muss noch geklärt werden, wie die Elektronen in eine bestimmte Richtung gelenkt werden (➔ negative Spannung am minus-Po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12960" y="279360"/>
            <a:ext cx="130302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12960" y="279360"/>
            <a:ext cx="130302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-12960" y="279360"/>
            <a:ext cx="130302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-12960" y="279360"/>
            <a:ext cx="130302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12960" y="279360"/>
            <a:ext cx="1303020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11258280" y="9330480"/>
            <a:ext cx="160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R. Deuber, KSB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11258280" y="9330480"/>
            <a:ext cx="160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R. Deuber, KSB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1258280" y="9330480"/>
            <a:ext cx="160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R. Deuber, KSB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1258280" y="9330480"/>
            <a:ext cx="160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R. Deuber, KSB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1258280" y="9330480"/>
            <a:ext cx="160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R. Deuber, KSB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eitfähigkeit im MO-Model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2235240" y="2349360"/>
            <a:ext cx="9105840" cy="60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ösung der Aufgaben I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901800" y="2232000"/>
            <a:ext cx="11188440" cy="60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ösung der Aufgaben II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901800" y="1574640"/>
            <a:ext cx="11188440" cy="739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ösung der Aufgaben 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901800" y="1574640"/>
            <a:ext cx="11188440" cy="739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Prinzip der Solarzell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1879560" y="1739880"/>
            <a:ext cx="9016920" cy="5651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2822760" y="3922200"/>
            <a:ext cx="29145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  <a:ea typeface="Gill Sans"/>
              </a:rPr>
              <a:t>Achtung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  <a:ea typeface="Gill Sans"/>
              </a:rPr>
              <a:t>Rekombin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239160" y="3948480"/>
            <a:ext cx="47815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  <a:ea typeface="Gill Sans"/>
              </a:rPr>
              <a:t>Ableitung der Elektrone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  <a:ea typeface="Gill Sans"/>
              </a:rPr>
              <a:t>➔ </a:t>
            </a:r>
            <a:r>
              <a:rPr b="0" lang="en-US" sz="3200" spc="-1" strike="noStrike">
                <a:solidFill>
                  <a:srgbClr val="ff0000"/>
                </a:solidFill>
                <a:latin typeface="Gill Sans"/>
                <a:ea typeface="Gill Sans"/>
              </a:rPr>
              <a:t>Nutzung der Energie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Gill Sans"/>
                <a:ea typeface="Gill Sans"/>
              </a:rPr>
              <a:t>     als Elektrizitä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921200" y="7569360"/>
            <a:ext cx="61722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4160" indent="-254160">
              <a:buClr>
                <a:srgbClr val="ffff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Elektrische Leitfähigkeit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54160" indent="-254160">
              <a:buClr>
                <a:srgbClr val="ffff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∆</a:t>
            </a:r>
            <a:r>
              <a:rPr b="0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E ≙ sichtbares Licht VIS 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54160" indent="-254160"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Verhinderung der Rekombination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15920" y="7696080"/>
            <a:ext cx="3657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54160" indent="-254160">
              <a:buClr>
                <a:srgbClr val="ffffff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Voraussetzunge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Lucida Grande"/>
              </a:rPr>
              <a:t>∆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Lucida Grande"/>
              </a:rPr>
              <a:t>E und Grösse des mesomeren System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5695920" y="2222640"/>
            <a:ext cx="6502320" cy="4878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98400" y="2222640"/>
            <a:ext cx="4445280" cy="486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206" name="Rectangle 4"/>
          <p:cNvSpPr/>
          <p:nvPr/>
        </p:nvSpPr>
        <p:spPr>
          <a:xfrm>
            <a:off x="1117440" y="7569360"/>
            <a:ext cx="107697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Lucida Grande"/>
              </a:rPr>
              <a:t>Je mehr Elektronen das mesomere System beinhaltet, desto kleiner wird das ∆E zwischen HOMO und LUMO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Graphit und Diama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873000" y="2255760"/>
            <a:ext cx="5499360" cy="4330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3"/>
          <a:stretch/>
        </p:blipFill>
        <p:spPr>
          <a:xfrm>
            <a:off x="7053120" y="2259000"/>
            <a:ext cx="5499360" cy="4330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1054080" y="6851520"/>
            <a:ext cx="51562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Graphit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Riesiges mesomeres System“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048440" y="6851520"/>
            <a:ext cx="51562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Diamant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Keine Mesomeri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Graphit: Entstehung des „Leitungsbandes“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2590920" y="1879560"/>
            <a:ext cx="7823160" cy="4348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1117440" y="6686640"/>
            <a:ext cx="107697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Lucida Grande"/>
              </a:rPr>
              <a:t>Das ∆E zwischen HOMO und LUMO ist so klein, dass sie durch die kinetische Energie der Elektronen bei Raumtemperatur überwunden werden kann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Zapf Dingbats"/>
              </a:rPr>
              <a:t>➔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Zapf Dingbats"/>
              </a:rPr>
              <a:t>Elektrische Leitfähigke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2"/>
          <a:stretch/>
        </p:blipFill>
        <p:spPr>
          <a:xfrm>
            <a:off x="2590920" y="1879560"/>
            <a:ext cx="7810560" cy="4648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Lucida Grande"/>
              </a:rPr>
              <a:t>Diamant: Grosses ∆E zwischen Valenz- und Leitungsban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117440" y="6750000"/>
            <a:ext cx="107697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Lucida Grande"/>
              </a:rPr>
              <a:t>Das ∆E zwischen dem vollen, energiearmen Valenzband und dem leeren, energiereichen Leitungsband ist zu gross, als dass sie durch die kinetische Energie der Elektronen überwunden werden kan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Zapf Dingbats"/>
              </a:rPr>
              <a:t>➔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Zapf Dingbats"/>
              </a:rPr>
              <a:t>Diamant ist ein Isolat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eitfähigkeit von Metall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57200" y="7112160"/>
            <a:ext cx="5778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Atomrümpfe und freie Elektrone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Zapf Dingbats"/>
              </a:rPr>
              <a:t>➔ „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Zapf Dingbats"/>
              </a:rPr>
              <a:t>Elektronengas“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769080" y="7118280"/>
            <a:ext cx="54990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Interferenz zwischen Orbitale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Zapf Dingbats"/>
              </a:rPr>
              <a:t>➔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Zapf Dingbats"/>
              </a:rPr>
              <a:t>Valenz- und Leitungsbänd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453960" y="1768680"/>
            <a:ext cx="5626080" cy="4868640"/>
            <a:chOff x="453960" y="1768680"/>
            <a:chExt cx="5626080" cy="4868640"/>
          </a:xfrm>
        </p:grpSpPr>
        <p:pic>
          <p:nvPicPr>
            <p:cNvPr id="222" name="Picture 5" descr=""/>
            <p:cNvPicPr/>
            <p:nvPr/>
          </p:nvPicPr>
          <p:blipFill>
            <a:blip r:embed="rId2"/>
            <a:stretch/>
          </p:blipFill>
          <p:spPr>
            <a:xfrm>
              <a:off x="453960" y="2446200"/>
              <a:ext cx="56260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6"/>
            <p:cNvSpPr/>
            <p:nvPr/>
          </p:nvSpPr>
          <p:spPr>
            <a:xfrm>
              <a:off x="1212480" y="1768680"/>
              <a:ext cx="4026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Vereinfachtes Modell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224" name="Group 7"/>
          <p:cNvGrpSpPr/>
          <p:nvPr/>
        </p:nvGrpSpPr>
        <p:grpSpPr>
          <a:xfrm>
            <a:off x="6770520" y="1768680"/>
            <a:ext cx="5841720" cy="4878000"/>
            <a:chOff x="6770520" y="1768680"/>
            <a:chExt cx="5841720" cy="4878000"/>
          </a:xfrm>
        </p:grpSpPr>
        <p:pic>
          <p:nvPicPr>
            <p:cNvPr id="225" name="Picture 8" descr=""/>
            <p:cNvPicPr/>
            <p:nvPr/>
          </p:nvPicPr>
          <p:blipFill>
            <a:blip r:embed="rId3"/>
            <a:stretch/>
          </p:blipFill>
          <p:spPr>
            <a:xfrm>
              <a:off x="6770520" y="2450880"/>
              <a:ext cx="5841720" cy="41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Rectangle 9"/>
            <p:cNvSpPr/>
            <p:nvPr/>
          </p:nvSpPr>
          <p:spPr>
            <a:xfrm>
              <a:off x="8406360" y="1768680"/>
              <a:ext cx="2234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O-Modell: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698400" y="2247840"/>
            <a:ext cx="11506320" cy="4203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1778040" y="6991200"/>
            <a:ext cx="32004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Leiter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Metallische Stoffe und Graph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6578640" y="6991200"/>
            <a:ext cx="23367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Halbleiter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Halbmetal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9804240" y="6991200"/>
            <a:ext cx="29718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Gill Sans"/>
                <a:ea typeface="Gill Sans"/>
              </a:rPr>
              <a:t>Nichtleiter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Nichtmetallische Element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232" name="Group 6"/>
          <p:cNvGrpSpPr/>
          <p:nvPr/>
        </p:nvGrpSpPr>
        <p:grpSpPr>
          <a:xfrm>
            <a:off x="1826640" y="2696040"/>
            <a:ext cx="5325480" cy="1988280"/>
            <a:chOff x="1826640" y="2696040"/>
            <a:chExt cx="5325480" cy="1988280"/>
          </a:xfrm>
        </p:grpSpPr>
        <p:sp>
          <p:nvSpPr>
            <p:cNvPr id="233" name="Line 7"/>
            <p:cNvSpPr/>
            <p:nvPr/>
          </p:nvSpPr>
          <p:spPr>
            <a:xfrm flipH="1" flipV="1">
              <a:off x="5146200" y="3441240"/>
              <a:ext cx="1190880" cy="1243080"/>
            </a:xfrm>
            <a:prstGeom prst="line">
              <a:avLst/>
            </a:prstGeom>
            <a:ln w="15228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1826640" y="2696040"/>
              <a:ext cx="5325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Lucida Grande"/>
                </a:rPr>
                <a:t>Solarzellen: ∆E ≙ VIS!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12960" y="279360"/>
            <a:ext cx="13030200" cy="88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ösung der Aufgaben 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901800" y="1751040"/>
            <a:ext cx="11188440" cy="689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oger Deuber</cp:lastModifiedBy>
  <dcterms:modified xsi:type="dcterms:W3CDTF">2009-09-22T15:03:34Z</dcterms:modified>
  <cp:revision>3</cp:revision>
  <dc:subject/>
  <dc:title>Leitfähigkeit im MO-Modell</dc:title>
</cp:coreProperties>
</file>