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jpeg" ContentType="image/jpeg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2600" y="495360"/>
            <a:ext cx="1308096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rennung von Blattpigmenten mittels Säulenchromatographi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124080" y="3968640"/>
            <a:ext cx="6743880" cy="5058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174840" y="2438280"/>
            <a:ext cx="6654960" cy="67741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-12600" y="495360"/>
            <a:ext cx="13080960" cy="9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hotosynthese 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Einstrahlung von Elektromagnetischer Strahlun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2600" y="495360"/>
            <a:ext cx="13080960" cy="9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hotosynthese 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:  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Absorption durch Blattpigment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816200"/>
            <a:ext cx="4419720" cy="7619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34320" y="3314880"/>
            <a:ext cx="530856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arotinoid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52560" y="2489040"/>
            <a:ext cx="11315520" cy="3137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165320" y="5917680"/>
            <a:ext cx="1066320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c46"/>
                </a:solidFill>
                <a:latin typeface="Gill Sans"/>
                <a:ea typeface="Gill Sans"/>
              </a:rPr>
              <a:t>beta-Carote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c46"/>
                </a:solidFill>
                <a:latin typeface="Gill Sans"/>
                <a:ea typeface="Zapf Dingbats"/>
              </a:rPr>
              <a:t>• </a:t>
            </a:r>
            <a:r>
              <a:rPr b="0" lang="en-US" sz="3000" spc="-1" strike="noStrike">
                <a:solidFill>
                  <a:srgbClr val="ffec46"/>
                </a:solidFill>
                <a:latin typeface="Gill Sans"/>
                <a:ea typeface="Zapf Dingbats"/>
              </a:rPr>
              <a:t>Ausschliesslich Kohlenstoff- und Wasserstoffatome ➔ stark lipohpi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c46"/>
                </a:solidFill>
                <a:latin typeface="Gill Sans"/>
                <a:ea typeface="Zapf Dingbats"/>
              </a:rPr>
              <a:t>• </a:t>
            </a:r>
            <a:r>
              <a:rPr b="0" lang="en-US" sz="3000" spc="-1" strike="noStrike">
                <a:solidFill>
                  <a:srgbClr val="ffec46"/>
                </a:solidFill>
                <a:latin typeface="Gill Sans"/>
                <a:ea typeface="Zapf Dingbats"/>
              </a:rPr>
              <a:t>Grosses mesomeres System ➔ Absorption von Lich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2600" y="495360"/>
            <a:ext cx="13080960" cy="9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hlorophyll a und 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12160" y="2146320"/>
            <a:ext cx="2958840" cy="735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139840"/>
            <a:ext cx="2959200" cy="735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13920" y="2190600"/>
            <a:ext cx="237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1300"/>
                </a:solidFill>
                <a:latin typeface="Gill Sans"/>
                <a:ea typeface="Gill Sans"/>
              </a:rPr>
              <a:t>Chlorophyll 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10279440" y="2190600"/>
            <a:ext cx="239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483ff"/>
                </a:solidFill>
                <a:latin typeface="Gill Sans"/>
                <a:ea typeface="Gill Sans"/>
              </a:rPr>
              <a:t>Chlorophyll b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1962000" y="2062080"/>
            <a:ext cx="825480" cy="9399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747520" y="2758680"/>
            <a:ext cx="1420920" cy="779400"/>
          </a:xfrm>
          <a:prstGeom prst="line">
            <a:avLst/>
          </a:prstGeom>
          <a:ln w="63360">
            <a:solidFill>
              <a:srgbClr val="ff1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4083840" y="3539160"/>
            <a:ext cx="20322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300"/>
                </a:solidFill>
                <a:latin typeface="Gill Sans"/>
                <a:ea typeface="Gill Sans"/>
              </a:rPr>
              <a:t>Methylgrup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300"/>
                </a:solidFill>
                <a:latin typeface="Gill Sans"/>
                <a:ea typeface="Zapf Dingbats"/>
              </a:rPr>
              <a:t>➔ </a:t>
            </a:r>
            <a:r>
              <a:rPr b="0" lang="en-US" sz="2400" spc="-1" strike="noStrike">
                <a:solidFill>
                  <a:srgbClr val="ff1300"/>
                </a:solidFill>
                <a:latin typeface="Gill Sans"/>
                <a:ea typeface="Zapf Dingbats"/>
              </a:rPr>
              <a:t>liphophil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9402840" y="2758680"/>
            <a:ext cx="1163520" cy="746280"/>
          </a:xfrm>
          <a:prstGeom prst="line">
            <a:avLst/>
          </a:prstGeom>
          <a:ln w="63360">
            <a:solidFill>
              <a:srgbClr val="7483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10446480" y="3577320"/>
            <a:ext cx="2335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83ff"/>
                </a:solidFill>
                <a:latin typeface="Gill Sans"/>
                <a:ea typeface="Gill Sans"/>
              </a:rPr>
              <a:t>Carbonylgrup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83ff"/>
                </a:solidFill>
                <a:latin typeface="Gill Sans"/>
                <a:ea typeface="Zapf Dingbats"/>
              </a:rPr>
              <a:t>➔ </a:t>
            </a:r>
            <a:r>
              <a:rPr b="0" lang="en-US" sz="2400" spc="-1" strike="noStrike">
                <a:solidFill>
                  <a:srgbClr val="7483ff"/>
                </a:solidFill>
                <a:latin typeface="Gill Sans"/>
                <a:ea typeface="Zapf Dingbats"/>
              </a:rPr>
              <a:t>hydrophil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8569440" y="2046240"/>
            <a:ext cx="914400" cy="9270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60200" y="6517800"/>
            <a:ext cx="2205000" cy="474840"/>
          </a:xfrm>
          <a:prstGeom prst="line">
            <a:avLst/>
          </a:prstGeom>
          <a:ln w="63360">
            <a:solidFill>
              <a:srgbClr val="ffec4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720840" y="6518160"/>
            <a:ext cx="1049400" cy="541440"/>
          </a:xfrm>
          <a:prstGeom prst="line">
            <a:avLst/>
          </a:prstGeom>
          <a:ln w="63360">
            <a:solidFill>
              <a:srgbClr val="ffec4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3954600" y="7268040"/>
            <a:ext cx="28490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c46"/>
                </a:solidFill>
                <a:latin typeface="Gill Sans"/>
                <a:ea typeface="Gill Sans"/>
              </a:rPr>
              <a:t>Lipophiler  Schwanz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c46"/>
                </a:solidFill>
                <a:latin typeface="Gill Sans"/>
                <a:ea typeface="Gill Sans"/>
              </a:rPr>
              <a:t>➔  </a:t>
            </a:r>
            <a:r>
              <a:rPr b="0" lang="en-US" sz="2400" spc="-1" strike="noStrike">
                <a:solidFill>
                  <a:srgbClr val="ffec46"/>
                </a:solidFill>
                <a:latin typeface="Gill Sans"/>
                <a:ea typeface="Gill Sans"/>
              </a:rPr>
              <a:t>Verankerung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c46"/>
                </a:solidFill>
                <a:latin typeface="Gill Sans"/>
                <a:ea typeface="Gill Sans"/>
              </a:rPr>
              <a:t>in der Membra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äulenchromatographi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95560" y="1598760"/>
            <a:ext cx="6032520" cy="8040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5" name=""/>
          <p:cNvSpPr/>
          <p:nvPr/>
        </p:nvSpPr>
        <p:spPr>
          <a:xfrm flipH="1">
            <a:off x="5349600" y="7118280"/>
            <a:ext cx="4048200" cy="0"/>
          </a:xfrm>
          <a:prstGeom prst="line">
            <a:avLst/>
          </a:prstGeom>
          <a:ln w="63360">
            <a:solidFill>
              <a:srgbClr val="ffec4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"/>
          <p:cNvSpPr/>
          <p:nvPr/>
        </p:nvSpPr>
        <p:spPr>
          <a:xfrm>
            <a:off x="9482040" y="6935040"/>
            <a:ext cx="167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c46"/>
                </a:solidFill>
                <a:latin typeface="Gill Sans"/>
                <a:ea typeface="Gill Sans"/>
              </a:rPr>
              <a:t>Carotinoi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332320" y="5391000"/>
            <a:ext cx="4065840" cy="0"/>
          </a:xfrm>
          <a:prstGeom prst="line">
            <a:avLst/>
          </a:prstGeom>
          <a:ln w="63360">
            <a:solidFill>
              <a:srgbClr val="7483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9463680" y="5207760"/>
            <a:ext cx="191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83ff"/>
                </a:solidFill>
                <a:latin typeface="Gill Sans"/>
                <a:ea typeface="Gill Sans"/>
              </a:rPr>
              <a:t>Chlorophyll 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348160" y="5848200"/>
            <a:ext cx="4050000" cy="0"/>
          </a:xfrm>
          <a:prstGeom prst="line">
            <a:avLst/>
          </a:prstGeom>
          <a:ln w="63360">
            <a:solidFill>
              <a:srgbClr val="ff1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9471960" y="5664960"/>
            <a:ext cx="189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300"/>
                </a:solidFill>
                <a:latin typeface="Gill Sans"/>
                <a:ea typeface="Gill Sans"/>
              </a:rPr>
              <a:t>Chlorophyll 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V/VIS-Spektroskopie: Carotinoid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51040" y="1917720"/>
            <a:ext cx="11290320" cy="66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V/VIS-Spektroskopie: Chlorophyll 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51040" y="1917720"/>
            <a:ext cx="11290320" cy="66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V/VIS-Spektroskopie: Chlorophyll 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51040" y="1917720"/>
            <a:ext cx="11290320" cy="66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