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D2C1-70EC-4327-9014-D81049FD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7D1A-0ADE-4CE7-A5D2-83C9AD51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BDBD-ABBA-4B54-B38C-3B28163B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8B77-A24A-440A-8DD6-62067D7B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9F7-9518-43DE-AB47-215C8821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7EB-9E4E-4C1E-AC3E-BB2C8730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D8A6-7964-4BFF-BB6C-EAFD247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444-5E6E-41BB-9DD9-A6ECD260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0843-43B4-4C50-BE5B-60926AFF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91BD-EDC8-492C-B935-29981160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55ED-6B08-4AA5-B843-1A96A74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C575-800A-4E17-BEDE-A4FE95F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D590-59DD-46E6-BD0D-E6BDBAA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8D8-B210-4382-BA3D-6A05605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8839-6827-4BE5-B5D7-C275C02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235-D2B5-4A24-A6D7-54022E21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6DB2-FAC8-4B98-B824-7A90AA09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8FDF-3323-4F79-AFB0-647DFA6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9F85-6C22-4AB8-A5C1-470FB0F6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1DAD-E44B-4A87-A124-66B8574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E275-66A3-44BE-915C-408FD09D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0627-4E3F-4798-A483-73F141A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DE62-E262-4797-BB70-FD9976A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D64F-01D5-459A-A330-81B16E7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228-440A-4300-924B-589707A09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196-171F-4167-B9D4-61D529A6B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"/>
              </a:rPr>
              <a:t>Kryptografie &amp; Kryptoanaly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000000"/>
                </a:solidFill>
                <a:latin typeface="Arial"/>
              </a:rPr>
              <a:t>Eine Einführung in die klassische Kryptolog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Knacken von Vigenè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urch solche auftretende Muster lässt sich per Computer relativ einfach die Schlüssellänge l bestimmen, indem man gleiche Buchstabenfolgen im Geheimtext sucht und deren Abstand bestimm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Hat man erst einmal die Schlüssellänge l nimmt man zur Bestimmung des 1. Buchstabens des Schlüssels den 1., den 1+l., den 1+2l. etc. Buchstaben und macht auf diesen eine einfache Häufigkeit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FECE-D391-49D7-AAC9-E8E9FA693A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Knacken von Vigenèr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MC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MQ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HC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OJ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VR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BR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erschoben mit ‚k‘ </a:t>
            </a:r>
            <a:r>
              <a:rPr b="0" lang="de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ie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de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kl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rt</a:t>
            </a:r>
            <a:r>
              <a:rPr b="1" lang="de-CH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i="1" lang="de-CH" sz="2800" spc="-1" strike="noStrike">
                <a:solidFill>
                  <a:srgbClr val="000000"/>
                </a:solidFill>
                <a:latin typeface="Courier New"/>
              </a:rPr>
              <a:t>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s funktioniert da ja alle diese Buchstaben um die gleiche Anzahl Stellen verschoben wurden (wie beim Caesar-Verfah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Man muss nur denn häufigsten Buchstaben finden, und schon ist die Verschiebung bekannt (durch Vergleich mit ‚e‘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90D8-2A31-45D1-9487-0934D0393B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Ist denn nichts sic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as Knacken von Vigenère gelingt, da es wegen der fixen Schlüssellänge zu Wiederholungen kom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immt man einen Schlüssel der gleich lang ist wie der zu verschlüsselnde Text gibt es keine Wiederho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ieses Verfahren heisst „One-Time-Pa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3A3B-157A-4636-BFBA-512C2AAF28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One-Time-P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as One-Time-Pad ist ein 100% sicheres Verfahren, denn jeder Schlüsselbuchstabe wird nur ein mal (one-time) verwen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s hat nur einen - leider relativ grossen - Nachteil: Im vornherein muss ein riesengrosser geheimer Schlüssel vereinba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ses Verfahren wurde während des Kalten Krieges zwischen Moskau und Washington eingesetzt („heisser Draht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49D2-F5B5-4294-9CB3-AAA4546059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Der Schlüsselaustau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afür mussten regelmässig Diplomaten mit Koffern voller Zufallszahlen hin- und herr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nn auch beim One-Time-Pad gi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Schlüssel muss über einen sicheren separaten Kanal übermittel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st der Schlüssel dem Gegner bekannt ist die Sicherheit da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91F0-1E39-4051-9B5B-FC848AB733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Moderne 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as heute im kommerziellen Gebrauch am häufigsten eingesetzte Verfahren heisst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S steht für „Data Encryption Standar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s funktioniert im Prinzip wie ein mehrfach hintereinander angewandtes Substitutions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09BB-AFEC-4B39-9A68-6E3C97A809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Sicherheit von 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97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DES erlaubt mit 56 Bits Schlüssellänge 2</a:t>
            </a:r>
            <a:r>
              <a:rPr b="0" lang="de-CH" sz="28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 = 72’057’594’037’927’936 =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72 Billiarden mögliche Schlü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nnoch ist dies heute nicht mehr ausreichend: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S kann in 5 Tagen mittels der Brute-Force-Methode geknack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80000">
            <a:off x="6136560" y="1401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3133800" cy="4753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51640" y="5445000"/>
            <a:ext cx="3168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bbildung: Struktur von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(Quell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linux-magazin.de/Artikel/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gabe/1997/09/Krypto/krypto3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CB27-0B48-49EF-84C3-2D5B2C77CF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Genügen dann 128 B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47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r IDEA (= „International Data Encryption Algorithm“) arbeitet mit 128 Bits Schlüssellänge, sonst ähnlich wie de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32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= 3.43669 * 10</a:t>
            </a:r>
            <a:r>
              <a:rPr b="0" lang="de-CH" sz="32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Dies zu knacken benötigt etwa 10</a:t>
            </a:r>
            <a:r>
              <a:rPr b="0" lang="de-CH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Ja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shalb gilt der IDEA heute als si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57680" y="1700280"/>
            <a:ext cx="3407040" cy="378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83240" y="5516640"/>
            <a:ext cx="31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bbildung: Struktur vo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(Quell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media-crypt.com/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/Content/technical_description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4EC8-C44F-448E-854A-D82937BEED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ergleich Klassisch - Mod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Sowohl die klassischen Verfahren wie Vigenère als auch die modernen Verfahren wie IDE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nötigen einen Schlüssel der beiden Parteien im Vornherein bekann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ind symmetrisch (Entschlüsselung ist Umkehrung der Verschlüssel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ind in gewissen Masse anfällig auf Kryptoanalyse (z.B. Brute-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9C25-F6A4-427B-A202-A2075907AA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Der Schlüsselaustau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icherheitsrelevant für alle bisher kennen gelernten Verfahren ist der Schlüsselaustausch, der zuvor über einen geheimen Kanal stattfinden m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Nicht immer hat man aber die Möglichkeit sich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. B. persönlich zu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s gibt jedoch ein Möglichkeiten, auch über einen unsicheren Kanal den Schlüsselaustausch durchzufü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se Verfahren tragen den Namen „Public-Ke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A636-E5AA-4E4B-AD49-71C18D39CB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Caesar-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ie viele Schlüssel-Möglichkeiten gibt es beim Caesar-Ver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26 (Anzahl Buchstaben des Alphabetes </a:t>
            </a:r>
            <a:r>
              <a:rPr b="0" lang="de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Anzahl Verschiebu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1DC5-213C-43C4-ABD0-3AEFF65C01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Geschichte der Kryptografie ist ein Wettbewerb zwischen Verschlüsselungsspezialisten und Kryptoanaly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mentan liegen die Verschlüssler mit dem IDEA vorne, da dieses Verfahren nur mit Brute-Force geknackt werden kann, und dies wegen der grossen Schlüssellänge auch auf modernsten Computern noch zu lange ge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DCD6-E66E-48DC-9F95-CE6622F23C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Substitutionsverfahre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as müssen sie als Schlüssel eingeben damit keine Verschlüsselung stattfin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 oder AB oder ABC … (einfach so dass das Alphabet nicht durcheinander komm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38D5-1C0F-4A2A-96F6-27BE73F438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Substitutionsverfahre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ieso sollte der Text mindestens 200 Zeichen umfass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Bei einem zu kurzen Text kann es sehr gut sein dass die Analyse nicht mit der Statistik übereinstimmt, d. h. dass der häufigste Buchstaben nicht unbedingt ein ‚e‘ 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B8BC-88DD-489B-AD60-289EB7DC0D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igenère-Verfahre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ieso wird beim Programm „Vigenère“ in der Mitte das Alphabet nicht angezeig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Vigenère ist ein polyalphabetisches Verfahren, d. h. pro Klartextbuchstaben gibt es mehrere mögliche Geheimtextbuchstaben und umgeke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68E3-358A-414A-A744-7EFA30C058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igenère-Verfahre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ie sieht die Häufigkeitsverteilung a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Bei einem genügend langen Text gibt es keinen einzelnen „Maximalausschlag“, da aus dem häufigen ‚e‘ mehrere verschiedene Buchstaben werden können (polyalphabetisches Verfah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DE97-32F1-4161-B69D-E82C9CCC1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igenère-Verfahre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3200" spc="-1" strike="noStrike">
                <a:solidFill>
                  <a:srgbClr val="000000"/>
                </a:solidFill>
                <a:latin typeface="Arial"/>
              </a:rPr>
              <a:t>Wieso klappt die Häufigkeitsanalyse hier nicht?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ies folgt aus der letzten Frage: Ohne klare Häufigkeitsverteilung kann man auch keine Häufigkeitsanalyse machen. Die Häufigkeitsanalyse ist bei polyalphabetischen Verfahren macht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2F64-FDE1-4E4A-B014-19343321F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igenère-Verfahre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ieso ist das Knacken der Nachricht auch bei einer polyalphabetischen Verschlüsselung noch mögl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Schlüssel hat eine bestimmte Länge, z. B. 3 wie hier im Beispi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diesistderkla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+ keykeykeykeykey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NMCCMQDHCBOJKVRO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CAAC-A08D-42E8-BFD7-54A43B07A7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000" y="4292640"/>
            <a:ext cx="216000" cy="1441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4292640"/>
            <a:ext cx="216000" cy="1441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Knacken von Vigenèr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hat zur Folge das jeder 3. Buchstabe um die gleiche Anzahl Buchstaben verschoben wird (der 1., der 4., etc., alle werden um k = 11 Stellen verscho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nn nun wie im Beispiel an 2. und 5. Stelle der gleiche Buchstabe steht (‚i‘) so wird aus diesem auch der gleiche Geheimtextbuchstabe (‚M‘)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diesistderkla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+ keykeykeykeykey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NMCCMQDHCBOJKVR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E81C-4F0C-4B75-93BC-2BC63BB93C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ugust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3:42:53Z</dcterms:created>
  <dc:creator>Marcel Kessler</dc:creator>
  <dc:description/>
  <dc:language>en-US</dc:language>
  <cp:lastModifiedBy>Marcel Kessler</cp:lastModifiedBy>
  <dcterms:modified xsi:type="dcterms:W3CDTF">2003-09-24T10:29:19Z</dcterms:modified>
  <cp:revision>22</cp:revision>
  <dc:subject/>
  <dc:title>Kryptografie &amp; Kryptoanalyse</dc:title>
</cp:coreProperties>
</file>