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142B-1BBF-40DB-B864-348F083C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06A6-AA85-44C2-BD2C-4BC8B026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71BD-CAA5-4AC9-AA6D-373A9E32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5EC2-F351-4008-A903-F56617DC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C84-876F-47AF-8B36-62E21A5C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0D4C-DA5F-4C15-9018-BD0050F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51CE-CEFB-4249-BCB6-4C832E25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9720-7C1A-4549-A634-11570062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2DD6-EDB6-42E0-BAF0-B1F4E14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D83F-D332-4D81-A0C4-F044104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04FA-BD89-442D-A06A-8E4C91A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2032-39A6-4DE5-A98A-9DA0B616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BEB1-41F5-4951-81D0-F93BFBB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87A-C375-41EE-AF83-0EB86DC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913C-1884-4200-8DFF-681069C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BEC-A054-43EA-BF6A-9EE16AAE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98C9-C4A8-4270-91A1-8E8A28D1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AC6C-8939-40F9-A83F-7273DB12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339C-674F-4EE4-BFAD-90122B1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EC78-EC2C-4C4B-9F0A-40C1390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03F8-1E22-4B5F-99BA-158AB8C8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B076-78CD-41FA-992B-BD21D0B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160C-4CF1-47D5-B789-7749C36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4BFA-6676-4166-95AD-CF39AED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0F1A-3483-423F-85BB-4B11BB6DC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A59-7D26-47C5-A973-720006790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"/>
              </a:rPr>
              <a:t>Kryptografie &amp; Kryptoanaly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000000"/>
                </a:solidFill>
                <a:latin typeface="Arial"/>
              </a:rPr>
              <a:t>Eine Einführung in die klassische Kryptolog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Das Caesar-Ver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urde von Julius Caesar 50 Jahre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 Christus benut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as Alphabet wird einfach um mehrere Buchstaben verscho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um Beispiel um 3 Buchsta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defghijklmnopqrstuvw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DEFGHIJKLMNOPQRSTUVWXYZ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amit wird aus dem Klartext „hallo“ der Geheimtext „KDOOR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1228680" cy="15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9D34-46E5-4ADB-BD4E-967288FF4E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ntschlüsse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Entschlüsselung ist die Umkehrung der Verschlüsselung (symmetrische Verfahr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as heisst beim Beispiel-Caesar-Verfahren jetzt um 3 Buchstaben zurückversch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ABCDEFGHIJKLMNOPQRSTUVW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xyz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abcdefghijklmnopqrstuv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o wird aus „KDOOR“ wieder ein „hallo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5D30-E321-4C0B-94C6-FDD5443BA7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Monoalphabetische Ver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Caesar-Verschlüsselung ist ein monoalphabetisches Verfahren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Aus einem bestimmten Klartextbuchstaben wird immer derselbe Geheimtextbuchsta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bcdefg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ijk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mn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pqrstuvw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HEQUIC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BRO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NF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JMPDVLAZY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amit wird aus dem Klartext „ha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o“ der Geheimtext „KT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X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us dem 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“ wird beide Male ein 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7C6E-3335-4240-B3E6-434A6A25B0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Gruppen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Je 2 Zweierteams arbeiten zusammen in einer Vierergrup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Zweierteams senden sich gegenseitig Nachrich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Zweierteam steht ein PC zur Verfüg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vor es losgeht müssen sich die 2 Zweierteams auf einen gemeinsamen Schlüssel für eine Caesar-Verschlüsselung ein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6EE2-E678-467D-B021-127F028294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Bedienung der 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Während der Gruppenarbeit kommen 3 Programme vor. Die Bedienung sollte kein Problem se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Bei den meisten Knöpfen und Feldern erscheint eine genauere Information, wenn man mit der Maus für kurze Zeit darüber stehen blei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A053-7A82-4809-9048-CFDF6BCE60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10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7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1811-C5A4-4AB4-87CD-7007CB45D6C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Während der Gruppen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Wenn ein Zweierteam auf das andere warten muss, hat es in der Anleitung diverse Links um ein Thema zu vertie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Bei Fragen oder Problemen aufstrecken </a:t>
            </a:r>
            <a:r>
              <a:rPr b="0" lang="de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ich komme vorb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Viel Spa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0435-6BB4-49DE-B607-E899397519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nhand historischer Verschlüsselungsverfahren Grundprinzipien der Kryptografie kennen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Klassische Analysemethoden anwenden und sich dadurch der trotz Verschlüsselung verbleibenden Restrisiken der Verschlüsselung bewuss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8141-1540-49A0-A962-176FDA3846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90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sicht Kryp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schlüsse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ubstitution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igenère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One-Time-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S /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alyse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rute-Force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äufigkeitsverteilung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* In der Gruppen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9400" y="5300640"/>
            <a:ext cx="39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bbildung: Enigma - 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schlüsselungsmaschine von 1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(Quell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uboat.net/technical/enigma_breaki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2793960" cy="44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D50A-482D-4411-8546-5EDD92ED69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Da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>
            <a:off x="6299280" y="234936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1712880" cy="1668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39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2920" y="4653000"/>
            <a:ext cx="95508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la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14760" y="4653000"/>
            <a:ext cx="1994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leicher Klart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520" y="19890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lice (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2680" y="1989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ob (Empfän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2520" y="33764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aloy (Schnüff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4840" y="479736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038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9160" y="3932280"/>
            <a:ext cx="249876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hören, Manip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6480" y="558972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ur Bob soll die Nachricht von Alice empfangen könn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flipH="1">
            <a:off x="539640" y="2387520"/>
            <a:ext cx="1773360" cy="18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0E6C-1F54-402C-8B0D-6A00E30B6D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Die Lö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flipH="1">
            <a:off x="539640" y="23479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1712880" cy="1668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954840" y="4653000"/>
            <a:ext cx="95508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la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8280" y="1987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lice (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2680" y="1989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ob (Empfän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3800" y="33764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aloy (Schnüff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7508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66440" y="3932280"/>
            <a:ext cx="362664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in Mithören, kein Manipulie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22760" y="46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80200" y="4813200"/>
            <a:ext cx="6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2560" y="4813200"/>
            <a:ext cx="865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81320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1240" y="4670280"/>
            <a:ext cx="15872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ntschlüss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3400" y="4653000"/>
            <a:ext cx="95508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la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19480" y="4670280"/>
            <a:ext cx="15994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Verschlüss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1840" y="5540400"/>
            <a:ext cx="67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Die Nachricht wird verschlüssel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 flipH="1">
            <a:off x="6372360" y="234792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2C0A-2C52-4E7B-9F7F-36FF893786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7184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62800" y="4221000"/>
            <a:ext cx="4123440" cy="137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Kryptoanalyse: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W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icher ist ein V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chlüsselungsverfah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480" y="4221000"/>
            <a:ext cx="4096080" cy="137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Kryptografie: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Wie kan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ine Nachricht ver- 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ntschlüsselt we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27280" y="321300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321300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5760" y="1844640"/>
            <a:ext cx="6764400" cy="137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Kryptologie: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Wissenschaft vom Entwurf,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Anwendung und der Analyse von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ryptografischen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8D92-CCC1-4E5F-BB9C-0AF683CB20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Klassische Krypt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3860640"/>
            <a:ext cx="8075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Klartext (K) wird mittels eines Schlüssels verschlüss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Mit Hilfe des selben Schlüssels kann der Geheimtext (G) wieder entschlüssel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70200" y="3038400"/>
            <a:ext cx="738000" cy="3906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042920" y="2133720"/>
            <a:ext cx="1361880" cy="1060200"/>
            <a:chOff x="1042920" y="2133720"/>
            <a:chExt cx="1361880" cy="106020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1042920" y="2133720"/>
              <a:ext cx="1361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95800" y="2361960"/>
              <a:ext cx="41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99"/>
                  </a:solidFill>
                  <a:latin typeface="Tahoma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873760" y="2133720"/>
            <a:ext cx="1361880" cy="1060200"/>
            <a:chOff x="5873760" y="2133720"/>
            <a:chExt cx="1361880" cy="106020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5873760" y="2133720"/>
              <a:ext cx="1361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321240" y="2361960"/>
              <a:ext cx="45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3000" spc="-1" strike="noStrike">
                  <a:solidFill>
                    <a:srgbClr val="003399"/>
                  </a:solidFill>
                  <a:latin typeface="Tahoma"/>
                </a:rPr>
                <a:t>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482920" y="2637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482920" y="2925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11440" y="215280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schlüss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9600" y="29257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tschlüss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768920" y="2103480"/>
            <a:ext cx="738000" cy="3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1811-C4D8-4570-8F87-4005471C14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Geheime Übermitt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aussetz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r Empfänger kennt den Schlüs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ber sonst ni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hne Kenntnis des Schlüssels ist es unmöglich oder sehr schwierig den Klartext herauszufin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chwierigkei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chlüssel muss vorher vereinba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chlüssel muss geheim bleiben </a:t>
            </a:r>
            <a:r>
              <a:rPr b="0" lang="de-C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„geheimer Kanal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Verschlüsselungsverfahren muss sicher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7F5B-7718-461A-AE93-7D2C47C873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Vorhängeschloss-Ana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er Klartext ist „eingeschlossen“, und nur Alice und Bob haben den richtigen Schlüssel für das Sch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flipH="1">
            <a:off x="6948360" y="3044880"/>
            <a:ext cx="1208160" cy="1146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708360" y="1743120"/>
            <a:ext cx="1106640" cy="1077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29440" y="2679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71400" y="2684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3800" y="2822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al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 flipH="1">
            <a:off x="539640" y="3078000"/>
            <a:ext cx="1146240" cy="11862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2340000" y="2606760"/>
            <a:ext cx="1146240" cy="772920"/>
            <a:chOff x="2340000" y="2606760"/>
            <a:chExt cx="1146240" cy="77292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340000" y="2606760"/>
              <a:ext cx="11462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19800" y="2773080"/>
              <a:ext cx="41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99"/>
                  </a:solidFill>
                  <a:latin typeface="Tahoma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ock"/>
          <p:cNvSpPr/>
          <p:nvPr/>
        </p:nvSpPr>
        <p:spPr>
          <a:xfrm>
            <a:off x="2556000" y="2895480"/>
            <a:ext cx="699840" cy="6685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081760" y="2606760"/>
            <a:ext cx="1145880" cy="772920"/>
            <a:chOff x="5081760" y="2606760"/>
            <a:chExt cx="1145880" cy="772920"/>
          </a:xfrm>
        </p:grpSpPr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081760" y="2606760"/>
              <a:ext cx="11458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456160" y="2773080"/>
              <a:ext cx="45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3000" spc="-1" strike="noStrike">
                  <a:solidFill>
                    <a:srgbClr val="003399"/>
                  </a:solidFill>
                  <a:latin typeface="Tahoma"/>
                </a:rPr>
                <a:t>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ock"/>
          <p:cNvSpPr/>
          <p:nvPr/>
        </p:nvSpPr>
        <p:spPr>
          <a:xfrm>
            <a:off x="5364000" y="2895480"/>
            <a:ext cx="700200" cy="6685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835280" y="3543120"/>
            <a:ext cx="43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3471840"/>
            <a:ext cx="165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36147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6156360" y="4191120"/>
            <a:ext cx="738000" cy="390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1763640" y="4191120"/>
            <a:ext cx="738360" cy="39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ryptografie und Kryptoanaly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A0FD-2D0C-472D-B910-F603741C1D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kto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3:42:53Z</dcterms:created>
  <dc:creator>Marcel Kessler</dc:creator>
  <dc:description/>
  <dc:language>en-US</dc:language>
  <cp:lastModifiedBy>Marcel Kessler</cp:lastModifiedBy>
  <dcterms:modified xsi:type="dcterms:W3CDTF">2003-09-24T12:57:24Z</dcterms:modified>
  <cp:revision>25</cp:revision>
  <dc:subject/>
  <dc:title>Kryptografie &amp; Kryptoanalyse</dc:title>
</cp:coreProperties>
</file>