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BAD6-6F28-4918-90BB-61F4D20A4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130E-C52E-4044-9E2A-EC00EF4B5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B10E-F8B7-4A59-A374-3C6A857E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935C-CBC5-496C-A7CD-09D62C037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mit speziellen Varianten und Kombinationen herauskristallisi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922-EAA4-4F9A-922E-96F240C7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47D-5A98-40D9-ABB5-D51C34FEF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8BB-D96C-4C30-8D9B-FF0F1F40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12F2-DC17-499A-ADE3-A0A2D36C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5F1C-37FE-4EE9-A7BF-310D86CF1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224-F3CC-407A-A240-60FB763B6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1442-2D3A-4E90-8447-7C555B0A8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027-D1A7-4C82-9BAE-44DF30BB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860C-E68E-49DF-BFA5-50059CF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A82-C85B-4E3C-B5D6-6FFC014E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0ED-4602-4958-98FA-13D6E878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2294-E116-456F-A956-2693F06D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EAF3-30C8-4091-AD25-6181095C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71F0-7A72-4E05-B6B2-54777762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D81-BFB3-4CAC-9D24-AA6BC45B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98F6-E047-425D-8B44-D9AB98B7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B384-1429-460D-9C91-448C9ED7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28DB-512B-4284-809B-3FC4CEF5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39C-D54E-4C38-B1C5-5FBE182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0344-9B1C-4280-AD15-C172657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F71E-90A2-4E47-93A5-7680DBE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830-86CD-46EA-A1D3-7E697D7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1545-AD53-44FF-B350-AF0F702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0AE-9DCA-4BB6-8D8C-2A0E62FC7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BBC-5222-400F-98A5-C1FFADBD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435-E443-4C82-A66A-390823FC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99B3-0F85-415A-8911-9A9B728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E958-4C11-4A85-AA35-50C213C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A75-5952-45E6-9E72-D2B79DB8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C06-4423-45C3-9AF5-A44C0C98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73E-2F80-4F18-AED3-91FE2A29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40458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47C-9687-4195-8C15-79077E5776E0}" type="slidenum">
              <a:rPr b="0" lang="de-CH" sz="14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23C-7186-49D3-9521-7BAFA60AA428}" type="slidenum">
              <a:rPr b="0" lang="en-US" sz="1400" spc="-1" strike="noStrike">
                <a:solidFill>
                  <a:srgbClr val="40458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tec.informatik.uni-rostock.de/hypercomp/gif/pfoertner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tec.informatik.uni-rostock.de/hypercomp/gif/pfoertner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tec.informatik.uni-rostock.de/hypercomp/gif/pfoertner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hyperlink" Target="http://wwwtec.informatik.uni-rostock.de/hypercomp/gif/pfoertner.gif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uni-koeln.de/med-fak/chirurgie2/gifs/klinik.jpg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Firewal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906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3640" y="1576440"/>
            <a:ext cx="5895720" cy="4145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BZ Technikerschule Zürich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IT-Services Technologien,</a:t>
            </a:r>
            <a:br>
              <a:rPr sz="3200"/>
            </a:b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Vorträge zu Entwicklungstrend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1. Juli 2002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Kuno Pfund, Gregor Battilan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6255" t="8879" r="6255" b="11105"/>
          <a:stretch/>
        </p:blipFill>
        <p:spPr>
          <a:xfrm>
            <a:off x="5562720" y="304920"/>
            <a:ext cx="3276360" cy="21063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Arial"/>
              </a:rPr>
              <a:t>Eine Firewall besteht aus einer Gruppe von Netzwerkkomponenten (Hard- und Software) </a:t>
            </a:r>
            <a:br>
              <a:rPr sz="2400"/>
            </a:b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Arial"/>
              </a:rPr>
              <a:t>an der Schnittstelle zweier Netze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Arial"/>
              </a:rPr>
              <a:t>Sie gewährleistet die Einhaltung von Sicherheits-richtlinien zwischen einem zu schützenden und einem unsicheren Netz (z.B. dem Internet)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Arial"/>
              </a:rPr>
              <a:t>An dieser "Brandschutzmauer" entscheidet sich, auf welche Dienste innerhalb des privaten Netzes zugegriffen werden kann und welche Dienste des nicht sicheren Netzes aus dem privaten Netz heraus nutzbar sind.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Funktion von Firewall-System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Servicekontroll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etzwerkebe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wedungsebe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Benutzerkontroll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Entkopplung von Dienste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Verbergen des internen Netz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rotokollieru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larmierung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Zusatzfunktionen: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AT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IPSec / VP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chutz vor Malware, etc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 zur Firewal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523880"/>
            <a:ext cx="815364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40458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chutzmauer: Gesicherter Bereich</a:t>
            </a:r>
            <a:br>
              <a:rPr sz="2200"/>
            </a:b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mit klar definiertem Zugang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1375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Pförtner: Kontrolliert und </a:t>
            </a:r>
            <a:br>
              <a:rPr sz="2200"/>
            </a:b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steuert Durchgang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7" name="fabrik" descr=""/>
          <p:cNvPicPr/>
          <p:nvPr/>
        </p:nvPicPr>
        <p:blipFill>
          <a:blip r:embed="rId1"/>
          <a:stretch/>
        </p:blipFill>
        <p:spPr>
          <a:xfrm>
            <a:off x="5511960" y="1523880"/>
            <a:ext cx="3098520" cy="3241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962520"/>
            <a:ext cx="9144000" cy="236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4600" y="4495680"/>
            <a:ext cx="236232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71600" y="4495680"/>
            <a:ext cx="914400" cy="20574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6019920"/>
            <a:ext cx="914400" cy="53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90920" y="5715000"/>
            <a:ext cx="2209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00360" y="5529240"/>
            <a:ext cx="0" cy="838080"/>
          </a:xfrm>
          <a:prstGeom prst="line">
            <a:avLst/>
          </a:prstGeom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71600" y="4495680"/>
            <a:ext cx="91440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5791320"/>
            <a:ext cx="2209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24040" y="5664240"/>
            <a:ext cx="152640" cy="15228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95640" y="5740560"/>
            <a:ext cx="5335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05280" y="574056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4343400"/>
            <a:ext cx="2666880" cy="1981080"/>
          </a:xfrm>
          <a:custGeom>
            <a:avLst/>
            <a:gdLst/>
            <a:ahLst/>
            <a:rect l="l" t="t" r="r" b="b"/>
            <a:pathLst>
              <a:path w="1680" h="1248">
                <a:moveTo>
                  <a:pt x="96" y="1248"/>
                </a:moveTo>
                <a:lnTo>
                  <a:pt x="0" y="1248"/>
                </a:lnTo>
                <a:lnTo>
                  <a:pt x="0" y="0"/>
                </a:lnTo>
                <a:lnTo>
                  <a:pt x="1680" y="0"/>
                </a:lnTo>
                <a:lnTo>
                  <a:pt x="1680" y="1248"/>
                </a:lnTo>
                <a:lnTo>
                  <a:pt x="1584" y="1248"/>
                </a:lnTo>
                <a:lnTo>
                  <a:pt x="1584" y="96"/>
                </a:lnTo>
                <a:lnTo>
                  <a:pt x="96" y="96"/>
                </a:lnTo>
                <a:lnTo>
                  <a:pt x="96" y="124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886200"/>
            <a:ext cx="914400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572000" y="4952880"/>
            <a:ext cx="3048120" cy="1600200"/>
            <a:chOff x="4572000" y="4952880"/>
            <a:chExt cx="3048120" cy="1600200"/>
          </a:xfrm>
        </p:grpSpPr>
        <p:sp>
          <p:nvSpPr>
            <p:cNvPr id="283" name=""/>
            <p:cNvSpPr/>
            <p:nvPr/>
          </p:nvSpPr>
          <p:spPr>
            <a:xfrm>
              <a:off x="5181840" y="4952880"/>
              <a:ext cx="2438280" cy="12193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72000" y="5562720"/>
              <a:ext cx="609840" cy="609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3240" y="6095880"/>
              <a:ext cx="457200" cy="45720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858000" y="6095880"/>
              <a:ext cx="457200" cy="45720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257800" y="5029200"/>
              <a:ext cx="53352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0440" y="52578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0640" y="5486400"/>
              <a:ext cx="457200" cy="763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392120" y="5192640"/>
            <a:ext cx="893880" cy="82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1" name="pfoertner" descr="">
            <a:hlinkClick r:id="rId5"/>
          </p:cNvPr>
          <p:cNvPicPr/>
          <p:nvPr/>
        </p:nvPicPr>
        <p:blipFill>
          <a:blip r:embed="rId6"/>
          <a:srcRect l="12574" t="12497" r="22795" b="29176"/>
          <a:stretch/>
        </p:blipFill>
        <p:spPr>
          <a:xfrm>
            <a:off x="1392120" y="5268960"/>
            <a:ext cx="838440" cy="7621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905440" y="3505320"/>
            <a:ext cx="0" cy="38088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3352680"/>
            <a:ext cx="3733920" cy="32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48320" y="1981080"/>
            <a:ext cx="411480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8320" y="3352680"/>
            <a:ext cx="4114800" cy="3276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1981080"/>
            <a:ext cx="3733920" cy="1219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 zur Firewal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Gebäudeteile trennen, Übergang zu definiertem Bereich abschotte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Zugang prüfen und Personen prüfen (identifizieren und authentifizieren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Besucher registrieren, Verbindung herstell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nsportmittel und Gegenstände prüf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Ereignisse protokollier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etzabschnitte bilden, zu schützendes Netz abschott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Einziger, sicherer Überga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Wer hat Zugri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Über welche Protokolle und welche Diens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it welchen Rechner-</a:t>
            </a:r>
            <a:br>
              <a:rPr sz="2000"/>
            </a:b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ystemen darf kommuniziert werd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cherheitsrelevante Vorfälle in das Logfile schreib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504720" y="254484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chutzmau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rot="16200000">
            <a:off x="-207000" y="499140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förtn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02600" y="15843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04760" y="15843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bäu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 zur Firewal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14400" y="3041640"/>
            <a:ext cx="2209680" cy="1289160"/>
            <a:chOff x="914400" y="3041640"/>
            <a:chExt cx="2209680" cy="1289160"/>
          </a:xfrm>
        </p:grpSpPr>
        <p:pic>
          <p:nvPicPr>
            <p:cNvPr id="306" name="fabrik" descr=""/>
            <p:cNvPicPr/>
            <p:nvPr/>
          </p:nvPicPr>
          <p:blipFill>
            <a:blip r:embed="rId1"/>
            <a:stretch/>
          </p:blipFill>
          <p:spPr>
            <a:xfrm>
              <a:off x="2246400" y="3041640"/>
              <a:ext cx="748800" cy="78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914400" y="4202280"/>
              <a:ext cx="2209680" cy="128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3630240"/>
              <a:ext cx="2209680" cy="571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22080" y="3760200"/>
              <a:ext cx="570600" cy="442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45960" y="3760200"/>
              <a:ext cx="220680" cy="496800"/>
            </a:xfrm>
            <a:prstGeom prst="rect">
              <a:avLst/>
            </a:pr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5960" y="4128480"/>
              <a:ext cx="220680" cy="1285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40440" y="4054320"/>
              <a:ext cx="53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6360" y="4009320"/>
              <a:ext cx="0" cy="20232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5960" y="3760200"/>
              <a:ext cx="220680" cy="165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40440" y="4072680"/>
              <a:ext cx="53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48000" y="4042080"/>
              <a:ext cx="37080" cy="3708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79920" y="4060440"/>
              <a:ext cx="1285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640160" y="4060440"/>
              <a:ext cx="12924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4640" y="3722760"/>
              <a:ext cx="644400" cy="479160"/>
            </a:xfrm>
            <a:custGeom>
              <a:avLst/>
              <a:gdLst/>
              <a:ahLst/>
              <a:rect l="l" t="t" r="r" b="b"/>
              <a:pathLst>
                <a:path w="1680" h="1248">
                  <a:moveTo>
                    <a:pt x="96" y="1248"/>
                  </a:moveTo>
                  <a:lnTo>
                    <a:pt x="0" y="1248"/>
                  </a:lnTo>
                  <a:lnTo>
                    <a:pt x="0" y="0"/>
                  </a:lnTo>
                  <a:lnTo>
                    <a:pt x="1680" y="0"/>
                  </a:lnTo>
                  <a:lnTo>
                    <a:pt x="1680" y="1248"/>
                  </a:lnTo>
                  <a:lnTo>
                    <a:pt x="1584" y="1248"/>
                  </a:lnTo>
                  <a:lnTo>
                    <a:pt x="1584" y="96"/>
                  </a:lnTo>
                  <a:lnTo>
                    <a:pt x="96" y="96"/>
                  </a:lnTo>
                  <a:lnTo>
                    <a:pt x="96" y="12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" y="3612240"/>
              <a:ext cx="2209680" cy="370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019240" y="3870360"/>
              <a:ext cx="736200" cy="385920"/>
              <a:chOff x="2019240" y="3870360"/>
              <a:chExt cx="736200" cy="385920"/>
            </a:xfrm>
          </p:grpSpPr>
          <p:sp>
            <p:nvSpPr>
              <p:cNvPr id="322" name=""/>
              <p:cNvSpPr/>
              <p:nvPr/>
            </p:nvSpPr>
            <p:spPr>
              <a:xfrm>
                <a:off x="2166480" y="3870360"/>
                <a:ext cx="588960" cy="29448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19240" y="4017600"/>
                <a:ext cx="147240" cy="14688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111040" y="4146120"/>
                <a:ext cx="110160" cy="110160"/>
              </a:xfrm>
              <a:prstGeom prst="ellipse">
                <a:avLst/>
              </a:prstGeom>
              <a:solidFill>
                <a:srgbClr val="3333cc"/>
              </a:solidFill>
              <a:ln w="572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571480" y="4146120"/>
                <a:ext cx="110160" cy="110160"/>
              </a:xfrm>
              <a:prstGeom prst="ellipse">
                <a:avLst/>
              </a:prstGeom>
              <a:solidFill>
                <a:srgbClr val="3333cc"/>
              </a:solidFill>
              <a:ln w="572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84840" y="3888720"/>
                <a:ext cx="128880" cy="12888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21560" y="3943800"/>
                <a:ext cx="55080" cy="5508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195280" y="3999240"/>
                <a:ext cx="110160" cy="1836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250640" y="3927960"/>
              <a:ext cx="215640" cy="2005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30" name="pfoertner" descr="">
              <a:hlinkClick r:id="rId5"/>
            </p:cNvPr>
            <p:cNvPicPr/>
            <p:nvPr/>
          </p:nvPicPr>
          <p:blipFill>
            <a:blip r:embed="rId6"/>
            <a:srcRect l="12574" t="12497" r="22795" b="29176"/>
            <a:stretch/>
          </p:blipFill>
          <p:spPr>
            <a:xfrm>
              <a:off x="1250640" y="3947040"/>
              <a:ext cx="20232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341080" y="3520080"/>
              <a:ext cx="0" cy="918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48320" y="160020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icherheitspolitik notwendi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Je weniger Besucher / Zugänge desto sicher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Effizient dank Zentralisieru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Interne Angreifer! Kein Bewegungsmelder, keine Überwachungskamera (IDS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Der gesamte Datenverkehr muss über diese Station lauf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Die Firewall selber muss resistent gegen Eindringlinge sei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2971800"/>
            <a:ext cx="609480" cy="1905120"/>
          </a:xfrm>
          <a:prstGeom prst="rightArrow">
            <a:avLst>
              <a:gd name="adj1" fmla="val 48667"/>
              <a:gd name="adj2" fmla="val 68491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Security vs. Connectivity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2394000"/>
            <a:ext cx="0" cy="327672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670720"/>
            <a:ext cx="4952880" cy="14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09680" y="2819520"/>
            <a:ext cx="5029200" cy="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71960" y="26668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40458c"/>
                </a:solidFill>
                <a:latin typeface="Arial"/>
              </a:rPr>
              <a:t>maxima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85640" y="640800"/>
            <a:ext cx="975312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77320" y="201312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Sicherhei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68440" y="5791320"/>
            <a:ext cx="265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Anzahl Teilnehmer,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Kommunikationsdienste, etc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372680" y="312408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hoch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9280" y="4038480"/>
            <a:ext cx="6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mittel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14360" y="502920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40458c"/>
                </a:solidFill>
                <a:latin typeface="Arial"/>
              </a:rPr>
              <a:t>niedrig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Typen von Firewall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In der Praxis habe sich folgende Firewall-Typen herauskristalisiert: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Paket Filter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Application Gateway (Proxy)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Unterschiede: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Art der Einbindung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66800" indent="-285840">
              <a:spcBef>
                <a:spcPts val="7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40458c"/>
                </a:solidFill>
                <a:latin typeface="Arial"/>
              </a:rPr>
              <a:t>Funktio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fabrik" descr=""/>
          <p:cNvPicPr/>
          <p:nvPr/>
        </p:nvPicPr>
        <p:blipFill>
          <a:blip r:embed="rId1"/>
          <a:stretch/>
        </p:blipFill>
        <p:spPr>
          <a:xfrm>
            <a:off x="5511960" y="1523880"/>
            <a:ext cx="3098520" cy="32418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962520"/>
            <a:ext cx="9144000" cy="236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4495680"/>
            <a:ext cx="2362320" cy="1828800"/>
          </a:xfrm>
          <a:prstGeom prst="rect">
            <a:avLst/>
          </a:prstGeom>
          <a:solidFill>
            <a:srgbClr val="ccecff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4495680"/>
            <a:ext cx="914400" cy="205740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71600" y="6019920"/>
            <a:ext cx="914400" cy="53316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90920" y="5715000"/>
            <a:ext cx="2209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5529240"/>
            <a:ext cx="0" cy="838080"/>
          </a:xfrm>
          <a:prstGeom prst="line">
            <a:avLst/>
          </a:prstGeom>
          <a:ln w="76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1600" y="4495680"/>
            <a:ext cx="914400" cy="6858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5791320"/>
            <a:ext cx="22096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24040" y="5664240"/>
            <a:ext cx="152640" cy="15228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95640" y="5740560"/>
            <a:ext cx="5335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5280" y="5740560"/>
            <a:ext cx="53316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343400"/>
            <a:ext cx="2666880" cy="1981080"/>
          </a:xfrm>
          <a:custGeom>
            <a:avLst/>
            <a:gdLst/>
            <a:ahLst/>
            <a:rect l="l" t="t" r="r" b="b"/>
            <a:pathLst>
              <a:path w="1680" h="1248">
                <a:moveTo>
                  <a:pt x="96" y="1248"/>
                </a:moveTo>
                <a:lnTo>
                  <a:pt x="0" y="1248"/>
                </a:lnTo>
                <a:lnTo>
                  <a:pt x="0" y="0"/>
                </a:lnTo>
                <a:lnTo>
                  <a:pt x="1680" y="0"/>
                </a:lnTo>
                <a:lnTo>
                  <a:pt x="1680" y="1248"/>
                </a:lnTo>
                <a:lnTo>
                  <a:pt x="1584" y="1248"/>
                </a:lnTo>
                <a:lnTo>
                  <a:pt x="1584" y="96"/>
                </a:lnTo>
                <a:lnTo>
                  <a:pt x="96" y="96"/>
                </a:lnTo>
                <a:lnTo>
                  <a:pt x="96" y="124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886200"/>
            <a:ext cx="9144000" cy="15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0" y="4952880"/>
            <a:ext cx="3048120" cy="1600200"/>
            <a:chOff x="4572000" y="4952880"/>
            <a:chExt cx="3048120" cy="1600200"/>
          </a:xfrm>
        </p:grpSpPr>
        <p:sp>
          <p:nvSpPr>
            <p:cNvPr id="363" name=""/>
            <p:cNvSpPr/>
            <p:nvPr/>
          </p:nvSpPr>
          <p:spPr>
            <a:xfrm>
              <a:off x="5181840" y="4952880"/>
              <a:ext cx="2438280" cy="121932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0" y="5562720"/>
              <a:ext cx="609840" cy="609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53240" y="6095880"/>
              <a:ext cx="457200" cy="45720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58000" y="6095880"/>
              <a:ext cx="457200" cy="45720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7800" y="5029200"/>
              <a:ext cx="533520" cy="53352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440" y="52578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00640" y="5486400"/>
              <a:ext cx="457200" cy="763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1392120" y="5192640"/>
            <a:ext cx="893880" cy="82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71" name="pfoertner" descr="">
            <a:hlinkClick r:id="rId5"/>
          </p:cNvPr>
          <p:cNvPicPr/>
          <p:nvPr/>
        </p:nvPicPr>
        <p:blipFill>
          <a:blip r:embed="rId6"/>
          <a:srcRect l="12574" t="12497" r="22795" b="29176"/>
          <a:stretch/>
        </p:blipFill>
        <p:spPr>
          <a:xfrm>
            <a:off x="1392120" y="5268960"/>
            <a:ext cx="838440" cy="7621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905440" y="3505320"/>
            <a:ext cx="0" cy="38088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n zu Firewall-Typ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9760" y="1704960"/>
            <a:ext cx="4314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aketfilt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Application Gateway (Prox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85800" y="4800600"/>
            <a:ext cx="3733920" cy="190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2133720"/>
            <a:ext cx="4114800" cy="251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4800600"/>
            <a:ext cx="4114800" cy="190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2133720"/>
            <a:ext cx="3733920" cy="2514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0" y="22096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261000" indent="-2610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alyse und Kontrolle bis auf Applikationsebe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61000" indent="-2610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tellvertreter (Proxy) entkoppelt Netz logisch und physikalisch: Es erfolgt keine direkte Verbindung zum Zielsystem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61000" indent="-2610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Proxy Software notwendig</a:t>
            </a:r>
            <a:br>
              <a:rPr sz="2000"/>
            </a:b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61000" indent="-2610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Der Pförtner prüft Papiere und Inhalt. Er nimmt die Pakete entgegen und bestellt einen Fahrer der eigenen Firma, der die Pakete zum eigentlichen Empfänger bringt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06680" y="166068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pplication Gateway (Proxy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6480" y="166068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aketfilt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60912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Analyse und Kontrolle bis auf Transportebene: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etzzugang: Header, z.B. Quelle, Ziel, Protokol-Ty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Netzwerk: IP- / ICMP-Head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Transport: TCP/UDP-Head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Zei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7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72520" indent="-2725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Der Pförtner prüft, ob das Logo auf dem LKW bekannt ist und lässt den Lastwagen passieren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n zu Firewall-Typ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-100800" y="292248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6200000">
            <a:off x="-186480" y="544356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Gebäu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nalogie zur Firewall-Typ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781680" y="304920"/>
            <a:ext cx="2133720" cy="1244160"/>
            <a:chOff x="6781680" y="304920"/>
            <a:chExt cx="2133720" cy="1244160"/>
          </a:xfrm>
        </p:grpSpPr>
        <p:pic>
          <p:nvPicPr>
            <p:cNvPr id="389" name="fabrik" descr=""/>
            <p:cNvPicPr/>
            <p:nvPr/>
          </p:nvPicPr>
          <p:blipFill>
            <a:blip r:embed="rId1"/>
            <a:stretch/>
          </p:blipFill>
          <p:spPr>
            <a:xfrm>
              <a:off x="8067960" y="304920"/>
              <a:ext cx="723240" cy="7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6781680" y="1425240"/>
              <a:ext cx="2133720" cy="12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781680" y="873360"/>
              <a:ext cx="2133720" cy="551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68480" y="998640"/>
              <a:ext cx="550800" cy="426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01720" y="998640"/>
              <a:ext cx="213120" cy="479520"/>
            </a:xfrm>
            <a:prstGeom prst="rect">
              <a:avLst/>
            </a:prstGeom>
            <a:noFill/>
            <a:ln w="3816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01720" y="1353960"/>
              <a:ext cx="213120" cy="123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86120" y="1282680"/>
              <a:ext cx="51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411320" y="1239120"/>
              <a:ext cx="0" cy="19548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01720" y="998640"/>
              <a:ext cx="213120" cy="1598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386120" y="1300320"/>
              <a:ext cx="515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93680" y="1270800"/>
              <a:ext cx="36000" cy="36000"/>
            </a:xfrm>
            <a:prstGeom prst="ellipse">
              <a:avLst/>
            </a:prstGeom>
            <a:solidFill>
              <a:srgbClr val="660066"/>
            </a:solidFill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14080" y="1288440"/>
              <a:ext cx="12384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482600" y="1288440"/>
              <a:ext cx="124920" cy="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332480" y="962280"/>
              <a:ext cx="622440" cy="462600"/>
            </a:xfrm>
            <a:custGeom>
              <a:avLst/>
              <a:gdLst/>
              <a:ahLst/>
              <a:rect l="l" t="t" r="r" b="b"/>
              <a:pathLst>
                <a:path w="1680" h="1248">
                  <a:moveTo>
                    <a:pt x="96" y="1248"/>
                  </a:moveTo>
                  <a:lnTo>
                    <a:pt x="0" y="1248"/>
                  </a:lnTo>
                  <a:lnTo>
                    <a:pt x="0" y="0"/>
                  </a:lnTo>
                  <a:lnTo>
                    <a:pt x="1680" y="0"/>
                  </a:lnTo>
                  <a:lnTo>
                    <a:pt x="1680" y="1248"/>
                  </a:lnTo>
                  <a:lnTo>
                    <a:pt x="1584" y="1248"/>
                  </a:lnTo>
                  <a:lnTo>
                    <a:pt x="1584" y="96"/>
                  </a:lnTo>
                  <a:lnTo>
                    <a:pt x="96" y="96"/>
                  </a:lnTo>
                  <a:lnTo>
                    <a:pt x="96" y="12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81680" y="855720"/>
              <a:ext cx="2133720" cy="3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7848360" y="1104840"/>
              <a:ext cx="711000" cy="372960"/>
              <a:chOff x="7848360" y="1104840"/>
              <a:chExt cx="711000" cy="372960"/>
            </a:xfrm>
          </p:grpSpPr>
          <p:sp>
            <p:nvSpPr>
              <p:cNvPr id="405" name=""/>
              <p:cNvSpPr/>
              <p:nvPr/>
            </p:nvSpPr>
            <p:spPr>
              <a:xfrm>
                <a:off x="7990560" y="1104840"/>
                <a:ext cx="568800" cy="28404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848360" y="1247040"/>
                <a:ext cx="142200" cy="141840"/>
              </a:xfrm>
              <a:prstGeom prst="rect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937280" y="1371240"/>
                <a:ext cx="106560" cy="106560"/>
              </a:xfrm>
              <a:prstGeom prst="ellipse">
                <a:avLst/>
              </a:prstGeom>
              <a:solidFill>
                <a:srgbClr val="3333cc"/>
              </a:solidFill>
              <a:ln w="572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381520" y="1371240"/>
                <a:ext cx="106560" cy="106560"/>
              </a:xfrm>
              <a:prstGeom prst="ellipse">
                <a:avLst/>
              </a:prstGeom>
              <a:solidFill>
                <a:srgbClr val="3333cc"/>
              </a:solidFill>
              <a:ln w="5724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08200" y="1122480"/>
                <a:ext cx="124200" cy="124200"/>
              </a:xfrm>
              <a:prstGeom prst="rect">
                <a:avLst/>
              </a:prstGeom>
              <a:solidFill>
                <a:srgbClr val="99ccff"/>
              </a:solidFill>
              <a:ln w="190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043840" y="1175760"/>
                <a:ext cx="53280" cy="53280"/>
              </a:xfrm>
              <a:prstGeom prst="ellipse">
                <a:avLst/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018280" y="1229040"/>
                <a:ext cx="106560" cy="17640"/>
              </a:xfrm>
              <a:prstGeom prst="triangle">
                <a:avLst>
                  <a:gd name="adj" fmla="val 50000"/>
                </a:avLst>
              </a:prstGeom>
              <a:solidFill>
                <a:srgbClr val="3333cc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7106400" y="1160280"/>
              <a:ext cx="208440" cy="193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413" name="pfoertner" descr="">
              <a:hlinkClick r:id="rId5"/>
            </p:cNvPr>
            <p:cNvPicPr/>
            <p:nvPr/>
          </p:nvPicPr>
          <p:blipFill>
            <a:blip r:embed="rId6"/>
            <a:srcRect l="12574" t="12497" r="22795" b="29176"/>
            <a:stretch/>
          </p:blipFill>
          <p:spPr>
            <a:xfrm>
              <a:off x="7106400" y="1179000"/>
              <a:ext cx="19548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8159400" y="766800"/>
              <a:ext cx="0" cy="8856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62120" y="1752480"/>
            <a:ext cx="3809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Paketfilt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Gute Performanc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Einfach erweiterungsfähi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Transparent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Verbergen i.A. zu schützendes Netz nich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Daten oberhalb der Transportebene werden i.d.R. nicht analysier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76920" y="1752480"/>
            <a:ext cx="4038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</a:rPr>
              <a:t>Application Gateway (Proxy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Sicherheitsfunktionen auf Anwendungseben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Stellvertreter (Proxy) benötig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Entkopplung der Diens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Verbergen internes Net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Bessere Protokollierungs-möglichkeite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Geringe Flexibilitä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Kosten i.d.R. höh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rial"/>
              </a:rPr>
              <a:t>Mein Heim-PC </a:t>
            </a:r>
            <a:br>
              <a:rPr sz="3600"/>
            </a:br>
            <a:r>
              <a:rPr b="0" lang="de-DE" sz="3600" spc="-1" strike="noStrike">
                <a:solidFill>
                  <a:srgbClr val="660066"/>
                </a:solidFill>
                <a:latin typeface="Arial"/>
              </a:rPr>
              <a:t>ist meine Burg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906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576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766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66160" y="6613560"/>
            <a:ext cx="37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</a:rPr>
              <a:t>Link: http://www.nzz.ch/2001/10/26/em/page-article7QOHQ.html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32967" r="0" b="3035"/>
          <a:stretch/>
        </p:blipFill>
        <p:spPr>
          <a:xfrm>
            <a:off x="685800" y="2209680"/>
            <a:ext cx="6095880" cy="4453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57400" y="415764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591000" y="152280"/>
            <a:ext cx="5172120" cy="2530440"/>
            <a:chOff x="3591000" y="152280"/>
            <a:chExt cx="5172120" cy="253044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rcRect l="2112" t="47184" r="9910" b="6259"/>
            <a:stretch/>
          </p:blipFill>
          <p:spPr>
            <a:xfrm>
              <a:off x="3962520" y="152280"/>
              <a:ext cx="4800600" cy="253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3591000" y="1857240"/>
              <a:ext cx="30456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Komponenten einer Firewall (1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1600200"/>
            <a:ext cx="4191120" cy="487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81560" y="1752480"/>
            <a:ext cx="14479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Einbindungsmodu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267080" y="320040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Analysemodu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62320" y="3200400"/>
            <a:ext cx="16761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Authentikations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modu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67080" y="411480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Entscheidungs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modu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67080" y="5105520"/>
            <a:ext cx="1676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Verarbeitungsmodul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für Sicherheits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relevante Ereigniss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62320" y="5943600"/>
            <a:ext cx="35812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Firewall-Schutzmodul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77120" y="5486400"/>
            <a:ext cx="99036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038480"/>
            <a:ext cx="761760" cy="7621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Regel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wer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5029200"/>
            <a:ext cx="761760" cy="76212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Logbuc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9" idx="2"/>
            <a:endCxn id="420" idx="0"/>
          </p:cNvCxnSpPr>
          <p:nvPr/>
        </p:nvCxnSpPr>
        <p:spPr>
          <a:xfrm>
            <a:off x="5105160" y="2666880"/>
            <a:ext cx="1080" cy="53424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0" idx="2"/>
            <a:endCxn id="422" idx="0"/>
          </p:cNvCxnSpPr>
          <p:nvPr/>
        </p:nvCxnSpPr>
        <p:spPr>
          <a:xfrm>
            <a:off x="5105160" y="3809520"/>
            <a:ext cx="1080" cy="30564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2" idx="2"/>
            <a:endCxn id="423" idx="0"/>
          </p:cNvCxnSpPr>
          <p:nvPr/>
        </p:nvCxnSpPr>
        <p:spPr>
          <a:xfrm>
            <a:off x="5105160" y="4723920"/>
            <a:ext cx="1080" cy="38196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0"/>
            <a:endCxn id="423" idx="2"/>
          </p:cNvCxnSpPr>
          <p:nvPr/>
        </p:nvCxnSpPr>
        <p:spPr>
          <a:xfrm flipV="1">
            <a:off x="4152960" y="5714280"/>
            <a:ext cx="953280" cy="2293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3" idx="1"/>
            <a:endCxn id="427" idx="4"/>
          </p:cNvCxnSpPr>
          <p:nvPr/>
        </p:nvCxnSpPr>
        <p:spPr>
          <a:xfrm flipH="1">
            <a:off x="3580560" y="5409720"/>
            <a:ext cx="6865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6" idx="4"/>
            <a:endCxn id="422" idx="1"/>
          </p:cNvCxnSpPr>
          <p:nvPr/>
        </p:nvCxnSpPr>
        <p:spPr>
          <a:xfrm>
            <a:off x="3580920" y="4419360"/>
            <a:ext cx="6865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1" idx="3"/>
            <a:endCxn id="420" idx="1"/>
          </p:cNvCxnSpPr>
          <p:nvPr/>
        </p:nvCxnSpPr>
        <p:spPr>
          <a:xfrm>
            <a:off x="4038120" y="3504960"/>
            <a:ext cx="229320" cy="10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26" idx="1"/>
            <a:endCxn id="421" idx="2"/>
          </p:cNvCxnSpPr>
          <p:nvPr/>
        </p:nvCxnSpPr>
        <p:spPr>
          <a:xfrm flipV="1">
            <a:off x="3200040" y="3809160"/>
            <a:ext cx="1080" cy="22932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23" idx="3"/>
            <a:endCxn id="419" idx="3"/>
          </p:cNvCxnSpPr>
          <p:nvPr/>
        </p:nvCxnSpPr>
        <p:spPr>
          <a:xfrm flipH="1" flipV="1">
            <a:off x="5828760" y="2209320"/>
            <a:ext cx="114840" cy="3201120"/>
          </a:xfrm>
          <a:prstGeom prst="bentConnector3">
            <a:avLst>
              <a:gd name="adj1" fmla="val -265094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952880" y="2209680"/>
            <a:ext cx="762120" cy="30492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52880" y="2362320"/>
            <a:ext cx="304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57800" y="2362320"/>
            <a:ext cx="152280" cy="759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409720" y="2362320"/>
            <a:ext cx="3049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648320" y="2133720"/>
            <a:ext cx="228600" cy="228600"/>
          </a:xfrm>
          <a:prstGeom prst="ellipse">
            <a:avLst/>
          </a:pr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4524120" y="2333520"/>
            <a:ext cx="152280" cy="15264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22" idx="3"/>
            <a:endCxn id="437" idx="3"/>
          </p:cNvCxnSpPr>
          <p:nvPr/>
        </p:nvCxnSpPr>
        <p:spPr>
          <a:xfrm flipH="1" flipV="1">
            <a:off x="5714280" y="2361960"/>
            <a:ext cx="229320" cy="2057760"/>
          </a:xfrm>
          <a:prstGeom prst="bentConnector3">
            <a:avLst>
              <a:gd name="adj1" fmla="val -100000"/>
            </a:avLst>
          </a:prstGeom>
          <a:ln w="19080">
            <a:solidFill>
              <a:srgbClr val="40458c"/>
            </a:solidFill>
            <a:prstDash val="sysDot"/>
            <a:miter/>
            <a:tailEnd len="med" type="triangle" w="med"/>
          </a:ln>
        </p:spPr>
      </p:cxnSp>
      <p:cxnSp>
        <p:nvCxnSpPr>
          <p:cNvPr id="444" name=""/>
          <p:cNvCxnSpPr>
            <a:stCxn id="426" idx="4"/>
            <a:endCxn id="423" idx="1"/>
          </p:cNvCxnSpPr>
          <p:nvPr/>
        </p:nvCxnSpPr>
        <p:spPr>
          <a:xfrm>
            <a:off x="3580920" y="4419360"/>
            <a:ext cx="686520" cy="991080"/>
          </a:xfrm>
          <a:prstGeom prst="straightConnector1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914400" y="1905120"/>
            <a:ext cx="342900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867280" y="1905120"/>
            <a:ext cx="251460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1040" y="1905120"/>
            <a:ext cx="80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siche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Net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546680" y="190512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unsiche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40458c"/>
                </a:solidFill>
                <a:latin typeface="Arial"/>
              </a:rPr>
              <a:t>Net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87280" y="6608880"/>
            <a:ext cx="42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40458c"/>
                </a:solidFill>
                <a:latin typeface="Arial"/>
              </a:rPr>
              <a:t>Quelle: </a:t>
            </a:r>
            <a:r>
              <a:rPr b="0" lang="de-CH" sz="1000" spc="-1" strike="noStrike">
                <a:solidFill>
                  <a:srgbClr val="40458c"/>
                </a:solidFill>
                <a:latin typeface="Arial"/>
                <a:ea typeface="Arial"/>
              </a:rPr>
              <a:t>N. Pohlmann, Firewallsysteme, 3. Aufl., Bonn, MITP-Verlag, 2000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Komponenten einer Firewall (2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Einbindungsmodul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Realisiert Verbindung der Netze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Analysemodul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Analyse der Kommunikationsdaten. Paket Filter und Application Gateway analysieren auf unterschiedlichen Ebene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Entscheidungsmodul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Auswertung der Analyseergebnisse. Vergleich mit den im Regelwerk festgelegten Definitionen der Sicherheitspolitik. Steuerung des Einbindungsmoduls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Verarbeitungsmodul für sicherheitsrelevante Ereignisse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Eintrag in das Logbuch und/oder Alarm, in Abhängig des Regelwerks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Authentikationsmodul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Identifikation und Authentisierung der Instanzen (Prozesse, Benutzer, etc.). Verschiedene Verfahren möglich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Regelwerk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Technische Umsetzung der Sicherheitspolitik und wird mit </a:t>
            </a:r>
            <a:br>
              <a:rPr sz="1800"/>
            </a:b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Hilfe eines Security Management erstellt.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Logbuch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Enthält alle Protokolleinträge der sicherheitsrelevanten Ereignisse, die gemäss Regelwerk im Betrieb aufgezeichnet werden solle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Security Management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Benötigt, um die Regeln für die Firewall festzulegen und die Protokolldaten aus den Logbuch zu analysiere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-1558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Firewallschutzmodul</a:t>
            </a:r>
            <a:r>
              <a:rPr b="0" lang="de-CH" sz="1800" spc="-1" strike="noStrike">
                <a:solidFill>
                  <a:srgbClr val="40458c"/>
                </a:solidFill>
                <a:latin typeface="Arial"/>
              </a:rPr>
              <a:t>: Firewall-Element muss neben den Sicherheitsdiensten selber gegen Angriffe resistent sein.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15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Firewall: Mehr als ein Produkt ...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Damit effektiv Schutz geboten wird, muss eine Firewall: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Auf einer Sicherheitspolitik aufsetzen,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korrekt installiert und konfiguriert,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korrekt administriert werden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09840" y="3506760"/>
            <a:ext cx="4197960" cy="2958480"/>
            <a:chOff x="2409840" y="3506760"/>
            <a:chExt cx="4197960" cy="2958480"/>
          </a:xfrm>
        </p:grpSpPr>
        <p:sp>
          <p:nvSpPr>
            <p:cNvPr id="455" name=""/>
            <p:cNvSpPr/>
            <p:nvPr/>
          </p:nvSpPr>
          <p:spPr>
            <a:xfrm>
              <a:off x="3965400" y="4491360"/>
              <a:ext cx="1296360" cy="129672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Sicherheits-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Politik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9019400">
              <a:off x="3706200" y="3885840"/>
              <a:ext cx="1555560" cy="112392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123920"/>
                <a:gd name="textAreaBottom" fmla="*/ 1124280 h 112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861561"/>
                  <a:lnTo>
                    <a:pt x="12485" y="132"/>
                  </a:lnTo>
                  <a:arcTo wR="10800" hR="10800" stAng="-4861561" swAng="486156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145600">
              <a:off x="4785840" y="4448520"/>
              <a:ext cx="1556280" cy="1123200"/>
            </a:xfrm>
            <a:custGeom>
              <a:avLst/>
              <a:gdLst>
                <a:gd name="textAreaLeft" fmla="*/ 0 w 1556280"/>
                <a:gd name="textAreaRight" fmla="*/ 1556640 w 1556280"/>
                <a:gd name="textAreaTop" fmla="*/ 0 h 1123200"/>
                <a:gd name="textAreaBottom" fmla="*/ 1123560 h 112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861561"/>
                  <a:lnTo>
                    <a:pt x="12485" y="132"/>
                  </a:lnTo>
                  <a:arcTo wR="10800" hR="10800" stAng="-4861561" swAng="486156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2772200">
              <a:off x="3187080" y="5009400"/>
              <a:ext cx="1555560" cy="1123560"/>
            </a:xfrm>
            <a:custGeom>
              <a:avLst/>
              <a:gdLst>
                <a:gd name="textAreaLeft" fmla="*/ 0 w 1555560"/>
                <a:gd name="textAreaRight" fmla="*/ 1555920 w 155556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4861561"/>
                  <a:lnTo>
                    <a:pt x="12485" y="132"/>
                  </a:lnTo>
                  <a:arcTo wR="10800" hR="10800" stAng="-4861561" swAng="486156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01400" y="4318200"/>
              <a:ext cx="86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Analyse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61040" y="3921840"/>
              <a:ext cx="1346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Anpassung /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Konfiguration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79000" y="5961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40458c"/>
                  </a:solidFill>
                  <a:latin typeface="Arial"/>
                </a:rPr>
                <a:t>Überwachung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09840" y="4177800"/>
              <a:ext cx="518400" cy="6051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630440" y="6583320"/>
            <a:ext cx="745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40458c"/>
                </a:solidFill>
                <a:latin typeface="Arial"/>
              </a:rPr>
              <a:t>Quelle, mit umfassender Information: Bundesamt für Sicherheit in der Informationstechnik (BS): www.bsi.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rcRect l="0" t="8889" r="18144" b="3332"/>
          <a:stretch/>
        </p:blipFill>
        <p:spPr>
          <a:xfrm>
            <a:off x="228600" y="0"/>
            <a:ext cx="8458200" cy="68025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133720" y="2362320"/>
            <a:ext cx="6324480" cy="4056840"/>
          </a:xfrm>
          <a:prstGeom prst="rect">
            <a:avLst/>
          </a:prstGeom>
          <a:solidFill>
            <a:srgbClr val="ffff66"/>
          </a:solidFill>
          <a:ln w="9360">
            <a:solidFill>
              <a:srgbClr val="b2b2b2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tzwerkzugriff auf Server mit internen Datenbeständen.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ortscan möglich, ohne Alarm: Port 1433 verriet den Hackern, dass das WEF einen Microsoft-Server mit dem Betriebssystem Windows 2000 betrieb.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sswort: Die Administratoren hatten das Standard-Passwort des MS SQL-Server (Benutzernamen "sa" mit leeren Passwort) nicht geändert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Erstellung der Sicherheitspolitik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40458c"/>
                </a:solidFill>
                <a:latin typeface="Arial"/>
              </a:rPr>
              <a:t>(Risiken und Schutzbedarf klären, Vorgaben beachten)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40458c"/>
                </a:solidFill>
                <a:latin typeface="Arial"/>
              </a:rPr>
              <a:t>Anforderungen festlegen: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 u="sng">
                <a:solidFill>
                  <a:srgbClr val="40458c"/>
                </a:solidFill>
                <a:uFillTx/>
                <a:latin typeface="Arial"/>
              </a:rPr>
              <a:t>Sicherheitsanforderungen</a:t>
            </a:r>
            <a:r>
              <a:rPr b="0" lang="de-CH" sz="26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 u="sng">
                <a:solidFill>
                  <a:srgbClr val="40458c"/>
                </a:solidFill>
                <a:uFillTx/>
                <a:latin typeface="Arial"/>
              </a:rPr>
              <a:t>Kommunikationsanforderungen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64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>
                <a:solidFill>
                  <a:srgbClr val="40458c"/>
                </a:solidFill>
                <a:latin typeface="Arial"/>
              </a:rPr>
              <a:t>Massnahmen festlegen: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 u="sng">
                <a:solidFill>
                  <a:srgbClr val="40458c"/>
                </a:solidFill>
                <a:uFillTx/>
                <a:latin typeface="Arial"/>
              </a:rPr>
              <a:t>Organisa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600" spc="-1" strike="noStrike" u="sng">
                <a:solidFill>
                  <a:srgbClr val="40458c"/>
                </a:solidFill>
                <a:uFillTx/>
                <a:latin typeface="Arial"/>
              </a:rPr>
              <a:t>Personal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 u="sng">
                <a:solidFill>
                  <a:srgbClr val="40458c"/>
                </a:solidFill>
                <a:uFillTx/>
                <a:latin typeface="Arial"/>
              </a:rPr>
              <a:t>Infrastruktur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Sicherheitsanforderung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Möglich Punkte: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Zu schützende Ressourcen: Daten, Rechnersysteme, Kommunikationseinrichtungen, etc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Zugangskontrolle auf der Benutzerebene (Authentisierung), Anwendungsebene, Netzwerkeben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Verbergen der internen Netzstruktu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Vertraulichkeit von Nachrichten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chutz gegen Angriffe auf Verfügbarkeit, z.B. für Informationsserve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chutz vor Angriffen durch das Bekanntwerden von neuen sicherheitsrelevanten Softwareschwachstell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Anforderungen an das Firewall-System selbe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5600" indent="-25560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Behandlung von sicherheitsrelevanten Ereigniss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Kommunikationsanforderung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Möglich Punkte: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Diensten und Anwendung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691560" indent="-259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Unterscheidung von internen und externen Benutzer, ev. unterteilt nach Kommunikationsprofil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91560" indent="-259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Richtung der Dienste und Anwendungen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691560" indent="-259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ggf. Anforderungen wie Authentisierungsverfahren, Verschlüsselung, Protokollierung, Zeitfenst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Information, welche (nicht) nach aussen gelangen darf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Filterregeln für die unteren Schichten (IP, ICMP, ARP, TCP und UDP) und für die Anwendungsschicht (SMTP, DNS, HTTP, etc.)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Default Policy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Verfügbarkei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58120" indent="-25812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Times New Roman"/>
              </a:rPr>
              <a:t>Datendurchsatz</a:t>
            </a:r>
            <a:r>
              <a:rPr b="0" lang="en-US" sz="22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assnahmen: Organisatio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Möglich Punkte: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Festlegung der Verantwortlichkeiten für Firewall-System (Sicherheitspolitik, Koordination, Umsetzung, Testen, Administration, etc.)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Zugriffsrechte zum Security Managemen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Kontrolle der Protokolldaten (wer, welche, wie oft, etc.)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Reaktion auf Verletzungen der Sicherheitspolitik definier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Informationsbeschaffung zu Sicherheitslücken (u.a. des Firewall-Systems), Installation der Updat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Betreuung der Benutze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Regelung für Wartungs- und Reparaturarbeit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assnahmen: Persona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Möglich Punkte: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ecurity Managemen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Profil des Security Administrator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Auswahl des Security Administrators und Extern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Vertreterregelung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Verfahren beim Ausscheiden eines Security Administrator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Benutze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Regelungen und Anweisung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Arial"/>
              </a:rPr>
              <a:t>Schulung der Benutz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60320" indent="-28548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40458c"/>
                </a:solidFill>
                <a:latin typeface="Arial"/>
                <a:ea typeface="Arial"/>
              </a:rPr>
              <a:t>Verfahren beim Ausscheiden eines Benutzer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Massnahmen: Infrastruktur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Möglich Punkte: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icherheitskritischen Zone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icherheitsmassnahmen und ihren Or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Firewall-Architektur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Anforderung an von aussen erreichbare System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Netzzugänge (ISP, Modempool, etc.)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284040" indent="-28404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Leitungsführung und physische Zugangssicherung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Hacked" descr=""/>
          <p:cNvPicPr/>
          <p:nvPr/>
        </p:nvPicPr>
        <p:blipFill>
          <a:blip r:embed="rId1"/>
          <a:srcRect l="5195" t="6495" r="3893" b="9166"/>
          <a:stretch/>
        </p:blipFill>
        <p:spPr>
          <a:xfrm>
            <a:off x="4572000" y="3657600"/>
            <a:ext cx="4267080" cy="28051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rial"/>
              </a:rPr>
              <a:t>           </a:t>
            </a:r>
            <a:r>
              <a:rPr b="0" lang="de-DE" sz="3600" spc="-1" strike="noStrike">
                <a:solidFill>
                  <a:srgbClr val="660066"/>
                </a:solidFill>
                <a:latin typeface="Arial"/>
              </a:rPr>
              <a:t>BlackICE™ PC Protectio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906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576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1" name="PC_Protection_small" descr=""/>
          <p:cNvPicPr/>
          <p:nvPr/>
        </p:nvPicPr>
        <p:blipFill>
          <a:blip r:embed="rId2"/>
          <a:srcRect l="0" t="0" r="4783" b="0"/>
          <a:stretch/>
        </p:blipFill>
        <p:spPr>
          <a:xfrm>
            <a:off x="762120" y="152280"/>
            <a:ext cx="1014120" cy="1295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77668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741320"/>
            <a:ext cx="7543800" cy="47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The product contains two independent modul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58840">
              <a:lnSpc>
                <a:spcPct val="100000"/>
              </a:lnSpc>
              <a:spcBef>
                <a:spcPts val="125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Firewal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1" marL="762120" indent="-258840">
              <a:lnSpc>
                <a:spcPct val="100000"/>
              </a:lnSpc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Intrusion detection system (IDS)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The software’s technology is based upon basic packet filtering and packet analysis technology.</a:t>
            </a:r>
            <a:r>
              <a:rPr b="0" lang="en-US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The product does not contain </a:t>
            </a:r>
            <a:br>
              <a:rPr sz="2000"/>
            </a:b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roxy features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The software does </a:t>
            </a:r>
            <a:br>
              <a:rPr sz="2000"/>
            </a:b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not replace an </a:t>
            </a:r>
            <a:br>
              <a:rPr sz="2000"/>
            </a:br>
            <a:r>
              <a:rPr b="0" lang="de-DE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anti-virus program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1000" y="6613560"/>
            <a:ext cx="489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Arial"/>
              </a:rPr>
              <a:t>Link: http://www.iss.net/products_services/hsoffice_protection/blkice_protect_pc.php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660066"/>
                </a:solidFill>
                <a:latin typeface="Arial"/>
              </a:rPr>
              <a:t>Fallbeispiel „SpitiX“ - Teil 1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Ausgabe Aufgabenblätter zu Teil 1 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Bearbeitung in Zweiergruppen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Gemeinsame Diskussion der Ergebnisse 5 Minuten vor der Paus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25956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40458c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81" name="klinik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4038480"/>
            <a:ext cx="40384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Firewall-Sicherheitspolitik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Voraussetzung für den sicheren Betrieb eines Firewall-Systems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Definiert Sicherheitsziele, die durch den Einsatz eines Firewall-Systems erfüllt werden sollen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Orientiert sich am Schutzbedarf des zu schützenden Systems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Muss bestehende allgemeine oder übergeordnete Sicherheitspolitik berücksichtigen.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  <a:ea typeface="Times New Roman"/>
              </a:rPr>
              <a:t>Verantwortlich: Leiter IT, IT-Sicherheitsmangemen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Firewall – Worum geht es?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9064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rcRect l="15495" t="49454" r="16377" b="20989"/>
          <a:stretch/>
        </p:blipFill>
        <p:spPr>
          <a:xfrm>
            <a:off x="0" y="3889440"/>
            <a:ext cx="9144000" cy="2968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133000" y="6647040"/>
            <a:ext cx="532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40458c"/>
                </a:solidFill>
                <a:latin typeface="Arial"/>
              </a:rPr>
              <a:t>Bildquelle: </a:t>
            </a:r>
            <a:r>
              <a:rPr b="0" lang="en-US" sz="1000" spc="-1" strike="noStrike">
                <a:solidFill>
                  <a:srgbClr val="40458c"/>
                </a:solidFill>
                <a:latin typeface="Arial"/>
              </a:rPr>
              <a:t>W. Cheswick, S. Bellovin: Firewalls and Internet Security, Addison- Wesley, 1994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523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Netzwerkkomponente, bestehend aus einem oder mehreren Element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Bildet einziger Übergang zwischen einem zu schützenden und einem unsicheren Netzbereich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Kontrolle von Zugang und Diensten an einem Punkt nach definierten Regeln durchsetz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Ziele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Sich der 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Schwächen von IT-Infrastrukturen (insb. Netzwerken) und sich daraus ergebenen Gefahren bewusst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 werden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Grob den Aufbau und Funktionen einer Firewall kennen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Die Bedeutung und Elemente einer Sicherheitspolitik kennen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Die wichtigsten 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Times New Roman"/>
              </a:rPr>
              <a:t>Technologien und Architekturen kennen und deren Einsatz in einem konkreten Kontext beurteilen können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Eine Firewall 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  <a:ea typeface="Arial"/>
              </a:rPr>
              <a:t>als ein Element von Sicherheitsmassnahmen verstehen </a:t>
            </a:r>
            <a:r>
              <a:rPr b="0" lang="de-CH" sz="2200" spc="-1" strike="noStrike">
                <a:solidFill>
                  <a:srgbClr val="40458c"/>
                </a:solidFill>
                <a:latin typeface="Arial"/>
              </a:rPr>
              <a:t>und die konzeptionellen Grenzen kennen.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696960" y="1741320"/>
          <a:ext cx="7989840" cy="3973680"/>
        </p:xfrm>
        <a:graphic>
          <a:graphicData uri="http://schemas.openxmlformats.org/drawingml/2006/table">
            <a:tbl>
              <a:tblPr/>
              <a:tblGrid>
                <a:gridCol w="5398920"/>
                <a:gridCol w="1752840"/>
                <a:gridCol w="83808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Inhal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hrform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Daue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Konzept der Firewall: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Ziele, Prinzip und Funktionen, Aufbau und funktionale Komponenten, Sicherheitspolitik 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hrervortr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5‘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allstudie Spital KliniX, 1. Tei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rtnerübung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Besprechun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20‘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us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echnologien und Architekturen: </a:t>
                      </a:r>
                      <a:br>
                        <a:rPr sz="1800"/>
                      </a:b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Paketfilter, Application Gateway, Anwendung,  Typische Topologien, Arten der Implementierun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Lehrervortra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15‘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Fallstudie Spital KliniX, 2. Teil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GruppenübungBesprechun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30‘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Ablauf der Doppellektio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Vertraulichkei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Integritä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Authentizität 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Verfügbarkei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Zugriffskontrol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Verbindlichkei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6f89f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40458c"/>
                </a:solidFill>
                <a:latin typeface="Arial"/>
              </a:rPr>
              <a:t>Anonymität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290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Sicherheitsanforderungen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Designziele </a:t>
            </a: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40458c"/>
                </a:solidFill>
                <a:latin typeface="Arial"/>
              </a:rPr>
              <a:t>           Potentielle Schwachstelle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660066"/>
                </a:solidFill>
                <a:latin typeface="Arial"/>
              </a:rPr>
              <a:t>Internet – TCP/IP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0" y="3048120"/>
          <a:ext cx="1905120" cy="2438280"/>
        </p:xfrm>
        <a:graphic>
          <a:graphicData uri="http://schemas.openxmlformats.org/drawingml/2006/table">
            <a:tbl>
              <a:tblPr/>
              <a:tblGrid>
                <a:gridCol w="19051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Anwendun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Transpor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etzwerk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40458c"/>
                          </a:solidFill>
                          <a:latin typeface="Arial"/>
                        </a:rPr>
                        <a:t>Netzzugang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914400" y="3595680"/>
            <a:ext cx="1962000" cy="1581120"/>
            <a:chOff x="914400" y="3595680"/>
            <a:chExt cx="1962000" cy="1581120"/>
          </a:xfrm>
        </p:grpSpPr>
        <p:sp>
          <p:nvSpPr>
            <p:cNvPr id="250" name=""/>
            <p:cNvSpPr/>
            <p:nvPr/>
          </p:nvSpPr>
          <p:spPr>
            <a:xfrm>
              <a:off x="1628640" y="4592160"/>
              <a:ext cx="1247760" cy="579240"/>
            </a:xfrm>
            <a:custGeom>
              <a:avLst/>
              <a:gdLst/>
              <a:ahLst/>
              <a:rect l="l" t="t" r="r" b="b"/>
              <a:pathLst>
                <a:path w="1221" h="567">
                  <a:moveTo>
                    <a:pt x="0" y="567"/>
                  </a:moveTo>
                  <a:cubicBezTo>
                    <a:pt x="44" y="539"/>
                    <a:pt x="11" y="567"/>
                    <a:pt x="34" y="526"/>
                  </a:cubicBezTo>
                  <a:cubicBezTo>
                    <a:pt x="44" y="508"/>
                    <a:pt x="67" y="475"/>
                    <a:pt x="67" y="475"/>
                  </a:cubicBezTo>
                  <a:cubicBezTo>
                    <a:pt x="79" y="438"/>
                    <a:pt x="95" y="399"/>
                    <a:pt x="117" y="367"/>
                  </a:cubicBezTo>
                  <a:cubicBezTo>
                    <a:pt x="127" y="334"/>
                    <a:pt x="140" y="295"/>
                    <a:pt x="159" y="267"/>
                  </a:cubicBezTo>
                  <a:cubicBezTo>
                    <a:pt x="166" y="257"/>
                    <a:pt x="177" y="251"/>
                    <a:pt x="184" y="242"/>
                  </a:cubicBezTo>
                  <a:cubicBezTo>
                    <a:pt x="232" y="180"/>
                    <a:pt x="260" y="120"/>
                    <a:pt x="326" y="75"/>
                  </a:cubicBezTo>
                  <a:cubicBezTo>
                    <a:pt x="371" y="44"/>
                    <a:pt x="429" y="30"/>
                    <a:pt x="476" y="0"/>
                  </a:cubicBezTo>
                  <a:cubicBezTo>
                    <a:pt x="538" y="7"/>
                    <a:pt x="599" y="35"/>
                    <a:pt x="660" y="41"/>
                  </a:cubicBezTo>
                  <a:cubicBezTo>
                    <a:pt x="767" y="52"/>
                    <a:pt x="796" y="50"/>
                    <a:pt x="893" y="50"/>
                  </a:cubicBezTo>
                  <a:lnTo>
                    <a:pt x="1221" y="561"/>
                  </a:lnTo>
                  <a:lnTo>
                    <a:pt x="0" y="567"/>
                  </a:lnTo>
                  <a:close/>
                </a:path>
              </a:pathLst>
            </a:custGeom>
            <a:solidFill>
              <a:srgbClr val="ecd882"/>
            </a:solidFill>
            <a:ln w="2844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14400" y="3595680"/>
              <a:ext cx="1962000" cy="15811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1068840" y="306216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Vertraulichkei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5880" y="542448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Verfügbarkei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2320" y="54244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Integritä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2971800"/>
            <a:ext cx="2362320" cy="25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Anwendungs-protokol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Netzverwaltung / </a:t>
            </a:r>
            <a:br>
              <a:rPr sz="1800"/>
            </a:b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Bootstra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Transport-protokoll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Routing-System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40458c"/>
                </a:solidFill>
                <a:latin typeface="Arial"/>
              </a:rPr>
              <a:t>Internetprotokol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78960" y="6477120"/>
            <a:ext cx="382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40458c"/>
                </a:solidFill>
                <a:latin typeface="Arial"/>
              </a:rPr>
              <a:t>Quelle: Plattner et. al., ETH Zürich, Vorlesung „IT-Security“, 2001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Sicherheitsmechanismen und System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Verschlüsselungssysteme (DES, RSA, etc.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Message Authentication und Digitale Signatu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Key Management, Authentication: PKI, Kerberos, etc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IP-Security: IPSec, VP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Web Security: SSL / TL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Email: PGP, S/MIM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Payment: SE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Intrusion Detec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Schutz vor Malware (Viren, Würmer, etc.)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5029200"/>
            <a:ext cx="457200" cy="304920"/>
          </a:xfrm>
          <a:custGeom>
            <a:avLst/>
            <a:gdLst>
              <a:gd name="textAreaLeft" fmla="*/ 0 w 457200"/>
              <a:gd name="textAreaRight" fmla="*/ 45756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cd882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12:20:42Z</dcterms:created>
  <dc:creator>PBWL</dc:creator>
  <dc:description/>
  <dc:language>en-US</dc:language>
  <cp:lastModifiedBy>KunoPfund</cp:lastModifiedBy>
  <dcterms:modified xsi:type="dcterms:W3CDTF">2002-07-10T15:16:01Z</dcterms:modified>
  <cp:revision>128</cp:revision>
  <dc:subject/>
  <dc:title>Firewall</dc:title>
</cp:coreProperties>
</file>