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76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30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192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376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30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karaweltfenster" descr=""/>
          <p:cNvPicPr/>
          <p:nvPr/>
        </p:nvPicPr>
        <p:blipFill>
          <a:blip r:embed="rId1"/>
          <a:stretch/>
        </p:blipFill>
        <p:spPr>
          <a:xfrm>
            <a:off x="2989440" y="1630440"/>
            <a:ext cx="3163680" cy="35971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as Weltfenster von Ka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"/>
          <p:cNvSpPr/>
          <p:nvPr/>
        </p:nvSpPr>
        <p:spPr>
          <a:xfrm>
            <a:off x="4873680" y="4848120"/>
            <a:ext cx="121932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054240" y="2371680"/>
            <a:ext cx="266760" cy="143820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1438200"/>
              <a:gd name="textAreaBottom" fmla="*/ 1425240 h 1438200"/>
            </a:gdLst>
            <a:ahLst/>
            <a:rect l="textAreaLeft" t="textAreaTop" r="textAreaRight" b="textAreaBottom"/>
            <a:pathLst>
              <a:path w="21600" h="116326">
                <a:moveTo>
                  <a:pt x="3600" y="0"/>
                </a:moveTo>
                <a:arcTo wR="3600" hR="3600" stAng="16200000" swAng="-5400000"/>
                <a:lnTo>
                  <a:pt x="0" y="112726"/>
                </a:lnTo>
                <a:arcTo wR="3600" hR="3600" stAng="10800000" swAng="-5400000"/>
                <a:lnTo>
                  <a:pt x="18000" y="1163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7160" y="2343240"/>
            <a:ext cx="266760" cy="1171440"/>
          </a:xfrm>
          <a:custGeom>
            <a:avLst/>
            <a:gdLst>
              <a:gd name="textAreaLeft" fmla="*/ 12960 w 266760"/>
              <a:gd name="textAreaRight" fmla="*/ 253800 w 266760"/>
              <a:gd name="textAreaTop" fmla="*/ 12960 h 1171440"/>
              <a:gd name="textAreaBottom" fmla="*/ 1158480 h 1171440"/>
            </a:gdLst>
            <a:ahLst/>
            <a:rect l="textAreaLeft" t="textAreaTop" r="textAreaRight" b="textAreaBottom"/>
            <a:pathLst>
              <a:path w="21600" h="94755">
                <a:moveTo>
                  <a:pt x="3600" y="0"/>
                </a:moveTo>
                <a:arcTo wR="3600" hR="3600" stAng="16200000" swAng="-5400000"/>
                <a:lnTo>
                  <a:pt x="0" y="91155"/>
                </a:lnTo>
                <a:arcTo wR="3600" hR="3600" stAng="10800000" swAng="-5400000"/>
                <a:lnTo>
                  <a:pt x="18000" y="947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06800" y="1914480"/>
            <a:ext cx="1371600" cy="266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22560" y="2712960"/>
            <a:ext cx="128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Kara direk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steu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6480" y="1380960"/>
            <a:ext cx="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3000" y="817560"/>
            <a:ext cx="346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lt neu erstellen, öffnen, erne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öffnen, speichern, speichern 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63800" y="2513160"/>
            <a:ext cx="274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mente in Welt einfü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Anklicken und Plaz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Drag&amp;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124320" y="2933640"/>
            <a:ext cx="48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76440" y="453384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66320" y="4056120"/>
            <a:ext cx="2255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mente aus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lt lösch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g auf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rten und ü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falleimer loslas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38720" y="5618160"/>
            <a:ext cx="237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mausfüh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l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9320" y="458964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schwindigkeit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mausführ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in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00480" y="1990800"/>
            <a:ext cx="599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5440" y="1646280"/>
            <a:ext cx="18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mfen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ze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877000" y="1990800"/>
            <a:ext cx="676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77560" y="1703520"/>
            <a:ext cx="152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instellu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zei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02120" y="4791240"/>
            <a:ext cx="1562040" cy="352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486040" y="5190840"/>
            <a:ext cx="4680" cy="43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1400" y="3067200"/>
            <a:ext cx="599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3040" y="4952880"/>
            <a:ext cx="524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06680" y="2333520"/>
            <a:ext cx="2305080" cy="231480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314800"/>
              <a:gd name="textAreaBottom" fmla="*/ 2202480 h 2314800"/>
            </a:gdLst>
            <a:ahLst/>
            <a:rect l="textAreaLeft" t="textAreaTop" r="textAreaRight" b="textAreaBottom"/>
            <a:pathLst>
              <a:path w="21600" h="21691">
                <a:moveTo>
                  <a:pt x="3600" y="0"/>
                </a:moveTo>
                <a:arcTo wR="3600" hR="3600" stAng="16200000" swAng="-5400000"/>
                <a:lnTo>
                  <a:pt x="0" y="18091"/>
                </a:lnTo>
                <a:arcTo wR="3600" hR="3600" stAng="10800000" swAng="-5400000"/>
                <a:lnTo>
                  <a:pt x="18000" y="216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5240" y="4067280"/>
            <a:ext cx="857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6920" y="3884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karawelt" descr=""/>
          <p:cNvPicPr/>
          <p:nvPr/>
        </p:nvPicPr>
        <p:blipFill>
          <a:blip r:embed="rId1"/>
          <a:stretch/>
        </p:blipFill>
        <p:spPr>
          <a:xfrm>
            <a:off x="874800" y="2021040"/>
            <a:ext cx="3163680" cy="3597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ie Welt von Ka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313880" y="2886120"/>
            <a:ext cx="2067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jekte in der W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t Drag&amp;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chi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0920" y="3971880"/>
            <a:ext cx="191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ltmenu d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htsklick öff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571920"/>
            <a:ext cx="1209600" cy="1276200"/>
          </a:xfrm>
          <a:custGeom>
            <a:avLst/>
            <a:gdLst>
              <a:gd name="textAreaLeft" fmla="*/ 59040 w 1209600"/>
              <a:gd name="textAreaRight" fmla="*/ 1150560 w 1209600"/>
              <a:gd name="textAreaTop" fmla="*/ 59040 h 1276200"/>
              <a:gd name="textAreaBottom" fmla="*/ 1217160 h 1276200"/>
            </a:gdLst>
            <a:ahLst/>
            <a:rect l="textAreaLeft" t="textAreaTop" r="textAreaRight" b="textAreaBottom"/>
            <a:pathLst>
              <a:path w="21600" h="22789">
                <a:moveTo>
                  <a:pt x="3600" y="0"/>
                </a:moveTo>
                <a:arcTo wR="3600" hR="3600" stAng="16200000" swAng="-5400000"/>
                <a:lnTo>
                  <a:pt x="0" y="19189"/>
                </a:lnTo>
                <a:arcTo wR="3600" hR="3600" stAng="10800000" swAng="-5400000"/>
                <a:lnTo>
                  <a:pt x="18000" y="227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600000" y="4267080"/>
            <a:ext cx="800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71200" y="5722920"/>
            <a:ext cx="70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oomen in der Welt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mittlere Maustaste gedrückt halten und Maus vertikal bew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linke Maustaste und CTRL gedrückt halten und Maus vertikal bew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685600" y="328608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38160" y="4514400"/>
            <a:ext cx="0" cy="1257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93160" y="1017720"/>
            <a:ext cx="524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ltausschnitt verschieb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e Maustaste gedrückt halten und Maus bew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geht nur, falls Welt grösser als sichtbarer Berei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66760" y="185724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5640" y="919080"/>
          <a:ext cx="44197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919080"/>
                    <a:ext cx="44197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as Programmfenster von Kar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615960" y="2133720"/>
            <a:ext cx="4143240" cy="1181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7120" y="1333440"/>
            <a:ext cx="1790640" cy="333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3448080"/>
            <a:ext cx="417204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657240" y="1504800"/>
            <a:ext cx="1590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560" y="1131840"/>
            <a:ext cx="40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m neu erstellen, öffnen, erne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öffnen, speichern, speichern 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809960" y="2781360"/>
            <a:ext cx="704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50120" y="26272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enans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838760" y="4762440"/>
            <a:ext cx="704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4589640"/>
            <a:ext cx="17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ustandsansic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ie Automatenansich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automatenansicht" descr=""/>
          <p:cNvPicPr/>
          <p:nvPr/>
        </p:nvPicPr>
        <p:blipFill>
          <a:blip r:embed="rId1"/>
          <a:stretch/>
        </p:blipFill>
        <p:spPr>
          <a:xfrm>
            <a:off x="723960" y="2152800"/>
            <a:ext cx="3919320" cy="2219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4880" y="2424240"/>
            <a:ext cx="1180800" cy="799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51200" y="2757600"/>
            <a:ext cx="971640" cy="771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080" y="1050840"/>
            <a:ext cx="185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enmen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ch Rechtskl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öff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99480" y="1050840"/>
            <a:ext cx="199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ustandsmen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ch Rechtsk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f Zustand öff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4560" y="1488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ustand d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klicken mark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30360" y="1871640"/>
            <a:ext cx="0" cy="495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83120" y="2052720"/>
            <a:ext cx="1409760" cy="117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55360" y="2489040"/>
            <a:ext cx="364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ustand verschieb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ustand in der Mitte anklicken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us bei gedrückter Taste bew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3480" y="4718160"/>
            <a:ext cx="536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uen Übergang erstell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ustaste über Rand des Zustandes drüc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i gedrückter Taste Maus über Zielzustand bewe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ste losla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25520" y="3281040"/>
            <a:ext cx="0" cy="1438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178160" y="2900520"/>
            <a:ext cx="13147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21000" y="1862280"/>
            <a:ext cx="0" cy="86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5960" y="3625920"/>
            <a:ext cx="302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oomen und verschieben der Ansicht gleich wie in der Wel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82600" y="3919680"/>
            <a:ext cx="1143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die Zustandsansich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779560" y="2028960"/>
          <a:ext cx="455616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560" y="2028960"/>
                    <a:ext cx="455616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917800" y="3719520"/>
            <a:ext cx="1523880" cy="4287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32440" y="3852720"/>
            <a:ext cx="1562040" cy="704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0880" y="2185920"/>
            <a:ext cx="1314360" cy="2858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6960" y="3951360"/>
            <a:ext cx="176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fehle 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g&amp;Drop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belle einfü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57480" y="4876920"/>
            <a:ext cx="0" cy="419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178080" y="3897360"/>
            <a:ext cx="1044720" cy="84240"/>
          </a:xfrm>
          <a:prstGeom prst="line">
            <a:avLst/>
          </a:prstGeom>
          <a:ln w="76320">
            <a:solidFill>
              <a:srgbClr val="ff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924520" y="4581000"/>
            <a:ext cx="0" cy="7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0040" y="5275440"/>
            <a:ext cx="245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Übergangsmenu dur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htsklick öff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95560" y="1733400"/>
            <a:ext cx="0" cy="4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4520" y="1150920"/>
            <a:ext cx="278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zuzeigenden Zust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ch Anklicken auswäh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72160" y="1733400"/>
            <a:ext cx="0" cy="101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01240" y="1150920"/>
            <a:ext cx="191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ächsten Zu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stim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60880" y="3081240"/>
            <a:ext cx="819000" cy="352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228840"/>
            <a:ext cx="6951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31840" y="27892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we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ch Klic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in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362320" y="4133880"/>
            <a:ext cx="504720" cy="209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09360" y="5275440"/>
            <a:ext cx="25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Übergänge und Befeh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ttels Drag&amp;Drop 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ierkorb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Tahoma"/>
              </a:rPr>
              <a:t>Getting started: Zustände erzeugen/bearbeit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174840" y="1863720"/>
          <a:ext cx="363888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4840" y="1863720"/>
                    <a:ext cx="363888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670280" y="2176560"/>
            <a:ext cx="2057400" cy="285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60880" y="2604960"/>
            <a:ext cx="1590840" cy="1847880"/>
          </a:xfrm>
          <a:custGeom>
            <a:avLst/>
            <a:gdLst>
              <a:gd name="textAreaLeft" fmla="*/ 77400 w 1590840"/>
              <a:gd name="textAreaRight" fmla="*/ 1513440 w 1590840"/>
              <a:gd name="textAreaTop" fmla="*/ 77400 h 1847880"/>
              <a:gd name="textAreaBottom" fmla="*/ 1770480 h 1847880"/>
            </a:gdLst>
            <a:ahLst/>
            <a:rect l="textAreaLeft" t="textAreaTop" r="textAreaRight" b="textAreaBottom"/>
            <a:pathLst>
              <a:path w="21600" h="25089">
                <a:moveTo>
                  <a:pt x="3600" y="0"/>
                </a:moveTo>
                <a:arcTo wR="3600" hR="3600" stAng="16200000" swAng="-5400000"/>
                <a:lnTo>
                  <a:pt x="0" y="21489"/>
                </a:lnTo>
                <a:arcTo wR="3600" hR="3600" stAng="10800000" swAng="-5400000"/>
                <a:lnTo>
                  <a:pt x="18000" y="25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27480" y="2709720"/>
            <a:ext cx="1571400" cy="10098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10240" y="1619280"/>
            <a:ext cx="0" cy="523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77320" y="1027080"/>
            <a:ext cx="221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me des Zust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muss eindeutig se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28880" y="3152880"/>
            <a:ext cx="4478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0640" y="2836800"/>
            <a:ext cx="237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e der vom Zust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wendeten Sens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86280" y="3333600"/>
            <a:ext cx="561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43200" y="305604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ste 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72160" y="4352400"/>
            <a:ext cx="0" cy="1124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14040" y="5504040"/>
            <a:ext cx="234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wendete Senso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ttels Drag&amp;Drop 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ierkorb lös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30520" y="3534840"/>
            <a:ext cx="1701720" cy="8280"/>
          </a:xfrm>
          <a:prstGeom prst="line">
            <a:avLst/>
          </a:prstGeom>
          <a:ln w="76320">
            <a:solidFill>
              <a:srgbClr val="ff0000">
                <a:alpha val="50000"/>
              </a:srgbClr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9520" y="3619080"/>
            <a:ext cx="1295280" cy="93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4080" y="4322880"/>
            <a:ext cx="24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en mitte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ag&amp;Drop hinzufü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09:49:01Z</dcterms:created>
  <dc:creator>Markus Brändle</dc:creator>
  <dc:description/>
  <dc:language>en-US</dc:language>
  <cp:lastModifiedBy>MatthiasDreier</cp:lastModifiedBy>
  <dcterms:modified xsi:type="dcterms:W3CDTF">2006-04-25T19:22:17Z</dcterms:modified>
  <cp:revision>47</cp:revision>
  <dc:subject/>
  <dc:title>Getting started: das Hauptfenster von Kara </dc:title>
</cp:coreProperties>
</file>