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5.png" ContentType="image/png"/>
  <Override PartName="/ppt/media/image2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28.png" ContentType="image/png"/>
  <Override PartName="/ppt/media/image45.png" ContentType="image/png"/>
  <Override PartName="/ppt/media/image33.jpeg" ContentType="image/jpeg"/>
  <Override PartName="/ppt/media/image46.png" ContentType="image/png"/>
  <Override PartName="/ppt/media/image6.wmf" ContentType="image/x-wmf"/>
  <Override PartName="/ppt/media/image48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57.jpeg" ContentType="image/jpe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png" ContentType="image/png"/>
  <Override PartName="/ppt/media/image8.wmf" ContentType="image/x-wmf"/>
  <Override PartName="/ppt/media/image40.png" ContentType="image/png"/>
  <Override PartName="/ppt/media/image39.png" ContentType="image/png"/>
  <Override PartName="/ppt/media/image9.png" ContentType="image/png"/>
  <Override PartName="/ppt/media/image7.wmf" ContentType="image/x-wmf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27.jpeg" ContentType="image/jpeg"/>
  <Override PartName="/ppt/media/image52.png" ContentType="image/png"/>
  <Override PartName="/ppt/media/image5.png" ContentType="image/png"/>
  <Override PartName="/ppt/media/image3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1920" y="394488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192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2556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3768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23080" y="1676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192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3768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23080" y="394488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192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25560" y="394488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5560" y="1676160"/>
            <a:ext cx="4164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1920" y="3944880"/>
            <a:ext cx="8534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761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png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pn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8.png"/><Relationship Id="rId10" Type="http://schemas.openxmlformats.org/officeDocument/2006/relationships/image" Target="../media/image29.jpeg"/><Relationship Id="rId11" Type="http://schemas.openxmlformats.org/officeDocument/2006/relationships/image" Target="../media/image30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1.png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jbuilder_pro_box" descr=""/>
          <p:cNvPicPr/>
          <p:nvPr/>
        </p:nvPicPr>
        <p:blipFill>
          <a:blip r:embed="rId1"/>
          <a:stretch/>
        </p:blipFill>
        <p:spPr>
          <a:xfrm>
            <a:off x="3581280" y="320364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369720" y="1414440"/>
            <a:ext cx="580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mport java.applet.Apple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import java.awt.Graphic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class HelloWorld extends Apple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public void paint(Graphics g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g.drawString("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Hello world!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", 50, 2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457200" y="3454560"/>
            <a:ext cx="3809160" cy="2796480"/>
            <a:chOff x="457200" y="3454560"/>
            <a:chExt cx="3809160" cy="2796480"/>
          </a:xfrm>
        </p:grpSpPr>
        <p:pic>
          <p:nvPicPr>
            <p:cNvPr id="41" name="qwizard" descr=""/>
            <p:cNvPicPr/>
            <p:nvPr/>
          </p:nvPicPr>
          <p:blipFill>
            <a:blip r:embed="rId2"/>
            <a:stretch/>
          </p:blipFill>
          <p:spPr>
            <a:xfrm>
              <a:off x="457200" y="4365360"/>
              <a:ext cx="2586240" cy="18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chart2" descr="JClass Chart"/>
            <p:cNvPicPr/>
            <p:nvPr/>
          </p:nvPicPr>
          <p:blipFill>
            <a:blip r:embed="rId3"/>
            <a:stretch/>
          </p:blipFill>
          <p:spPr>
            <a:xfrm>
              <a:off x="558720" y="3454560"/>
              <a:ext cx="3160080" cy="17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wizard" descr=""/>
            <p:cNvPicPr/>
            <p:nvPr/>
          </p:nvPicPr>
          <p:blipFill>
            <a:blip r:embed="rId4"/>
            <a:stretch/>
          </p:blipFill>
          <p:spPr>
            <a:xfrm>
              <a:off x="1680120" y="4092120"/>
              <a:ext cx="2586240" cy="18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"/>
          <p:cNvSpPr/>
          <p:nvPr/>
        </p:nvSpPr>
        <p:spPr>
          <a:xfrm rot="18900000">
            <a:off x="-176040" y="3897000"/>
            <a:ext cx="5715000" cy="347760"/>
          </a:xfrm>
          <a:prstGeom prst="rect">
            <a:avLst/>
          </a:prstGeom>
          <a:solidFill>
            <a:srgbClr val="33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700000">
            <a:off x="-20520" y="3875040"/>
            <a:ext cx="5638680" cy="327240"/>
          </a:xfrm>
          <a:prstGeom prst="rect">
            <a:avLst/>
          </a:prstGeom>
          <a:solidFill>
            <a:srgbClr val="3366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Programmieren - wie einsteigen 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run" descr=""/>
          <p:cNvPicPr/>
          <p:nvPr/>
        </p:nvPicPr>
        <p:blipFill>
          <a:blip r:embed="rId5"/>
          <a:stretch/>
        </p:blipFill>
        <p:spPr>
          <a:xfrm>
            <a:off x="5410080" y="2362320"/>
            <a:ext cx="37339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2971800"/>
            <a:ext cx="1143000" cy="121932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6600"/>
                </a:solidFill>
                <a:latin typeface="Tahoma"/>
              </a:rPr>
              <a:t>0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2971800"/>
            <a:ext cx="1143000" cy="121932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6600"/>
                </a:solidFill>
                <a:latin typeface="Tahoma"/>
              </a:rPr>
              <a:t>1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2971800"/>
            <a:ext cx="1143000" cy="121932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6600"/>
                </a:solidFill>
                <a:latin typeface="Tahoma"/>
              </a:rPr>
              <a:t>2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96080" y="2971800"/>
            <a:ext cx="1143000" cy="121932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6600"/>
                </a:solidFill>
                <a:latin typeface="Tahoma"/>
              </a:rPr>
              <a:t>3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028600" y="2621880"/>
            <a:ext cx="1476720" cy="1416600"/>
            <a:chOff x="2028600" y="2621880"/>
            <a:chExt cx="1476720" cy="1416600"/>
          </a:xfrm>
        </p:grpSpPr>
        <p:graphicFrame>
          <p:nvGraphicFramePr>
            <p:cNvPr id="150" name=""/>
            <p:cNvGraphicFramePr/>
            <p:nvPr/>
          </p:nvGraphicFramePr>
          <p:xfrm>
            <a:off x="2438280" y="2819520"/>
            <a:ext cx="462240" cy="53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819520"/>
                      <a:ext cx="46224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152" name=""/>
            <p:cNvCxnSpPr/>
            <p:nvPr/>
          </p:nvCxnSpPr>
          <p:spPr>
            <a:xfrm flipH="1" rot="16200000">
              <a:off x="2765880" y="2385720"/>
              <a:ext cx="2520" cy="1477080"/>
            </a:xfrm>
            <a:prstGeom prst="curvedConnector5">
              <a:avLst>
                <a:gd name="adj1" fmla="val -23200000"/>
                <a:gd name="adj2" fmla="val 50000"/>
                <a:gd name="adj3" fmla="val -23200000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2286000" y="3657600"/>
              <a:ext cx="762120" cy="380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CH" sz="2000" spc="-1" strike="noStrike">
                  <a:solidFill>
                    <a:srgbClr val="ffffff"/>
                  </a:solidFill>
                  <a:latin typeface="Tahoma"/>
                </a:rPr>
                <a:t>1.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14600" y="335268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66720" y="2693880"/>
            <a:ext cx="1476720" cy="1344600"/>
            <a:chOff x="4266720" y="2693880"/>
            <a:chExt cx="1476720" cy="1344600"/>
          </a:xfrm>
        </p:grpSpPr>
        <p:cxnSp>
          <p:nvCxnSpPr>
            <p:cNvPr id="156" name=""/>
            <p:cNvCxnSpPr/>
            <p:nvPr/>
          </p:nvCxnSpPr>
          <p:spPr>
            <a:xfrm flipH="1" rot="16200000">
              <a:off x="5004360" y="2373840"/>
              <a:ext cx="2160" cy="1477080"/>
            </a:xfrm>
            <a:prstGeom prst="curvedConnector5">
              <a:avLst>
                <a:gd name="adj1" fmla="val -23200000"/>
                <a:gd name="adj2" fmla="val 50000"/>
                <a:gd name="adj3" fmla="val -23200000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graphicFrame>
          <p:nvGraphicFramePr>
            <p:cNvPr id="157" name=""/>
            <p:cNvGraphicFramePr/>
            <p:nvPr/>
          </p:nvGraphicFramePr>
          <p:xfrm>
            <a:off x="4738680" y="2819520"/>
            <a:ext cx="461880" cy="53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38680" y="2819520"/>
                      <a:ext cx="4618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4495680" y="3657600"/>
              <a:ext cx="838440" cy="380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CH" sz="2000" spc="-1" strike="noStrike">
                  <a:solidFill>
                    <a:srgbClr val="ffffff"/>
                  </a:solidFill>
                  <a:latin typeface="Tahoma"/>
                </a:rPr>
                <a:t>2.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00600" y="335268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476760" y="2693880"/>
            <a:ext cx="1476720" cy="1344600"/>
            <a:chOff x="6476760" y="2693880"/>
            <a:chExt cx="1476720" cy="1344600"/>
          </a:xfrm>
        </p:grpSpPr>
        <p:cxnSp>
          <p:nvCxnSpPr>
            <p:cNvPr id="162" name=""/>
            <p:cNvCxnSpPr/>
            <p:nvPr/>
          </p:nvCxnSpPr>
          <p:spPr>
            <a:xfrm flipH="1" rot="16200000">
              <a:off x="7214400" y="2373840"/>
              <a:ext cx="2160" cy="1477080"/>
            </a:xfrm>
            <a:prstGeom prst="curvedConnector5">
              <a:avLst>
                <a:gd name="adj1" fmla="val -23200000"/>
                <a:gd name="adj2" fmla="val 50000"/>
                <a:gd name="adj3" fmla="val -23200000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graphicFrame>
          <p:nvGraphicFramePr>
            <p:cNvPr id="163" name=""/>
            <p:cNvGraphicFramePr/>
            <p:nvPr/>
          </p:nvGraphicFramePr>
          <p:xfrm>
            <a:off x="6948360" y="2819520"/>
            <a:ext cx="462240" cy="53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48360" y="2819520"/>
                      <a:ext cx="46224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>
              <a:off x="6705720" y="3657600"/>
              <a:ext cx="838080" cy="380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CH" sz="2000" spc="-1" strike="noStrike">
                  <a:solidFill>
                    <a:srgbClr val="ffffff"/>
                  </a:solidFill>
                  <a:latin typeface="Tahoma"/>
                </a:rPr>
                <a:t>3.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10280" y="335268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028600" y="1447920"/>
            <a:ext cx="3686400" cy="1677240"/>
            <a:chOff x="2028600" y="1447920"/>
            <a:chExt cx="3686400" cy="1677240"/>
          </a:xfrm>
        </p:grpSpPr>
        <p:pic>
          <p:nvPicPr>
            <p:cNvPr id="168" name="2%20franken" descr=""/>
            <p:cNvPicPr/>
            <p:nvPr/>
          </p:nvPicPr>
          <p:blipFill>
            <a:blip r:embed="rId7"/>
            <a:stretch/>
          </p:blipFill>
          <p:spPr>
            <a:xfrm>
              <a:off x="3505320" y="2286000"/>
              <a:ext cx="603000" cy="609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9" name=""/>
            <p:cNvCxnSpPr/>
            <p:nvPr/>
          </p:nvCxnSpPr>
          <p:spPr>
            <a:xfrm flipH="1" rot="16200000">
              <a:off x="3870720" y="1280880"/>
              <a:ext cx="2520" cy="3686760"/>
            </a:xfrm>
            <a:prstGeom prst="curvedConnector5">
              <a:avLst>
                <a:gd name="adj1" fmla="val -56000000"/>
                <a:gd name="adj2" fmla="val 50000"/>
                <a:gd name="adj3" fmla="val -56000000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3429000" y="1447920"/>
              <a:ext cx="762120" cy="380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CH" sz="2000" spc="-1" strike="noStrike">
                  <a:solidFill>
                    <a:srgbClr val="ffffff"/>
                  </a:solidFill>
                  <a:latin typeface="Tahoma"/>
                </a:rPr>
                <a:t>2.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86040" y="1828800"/>
              <a:ext cx="228600" cy="380880"/>
            </a:xfrm>
            <a:prstGeom prst="upArrow">
              <a:avLst>
                <a:gd name="adj1" fmla="val 50000"/>
                <a:gd name="adj2" fmla="val 4165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267080" y="1447920"/>
            <a:ext cx="3686760" cy="1665360"/>
            <a:chOff x="4267080" y="1447920"/>
            <a:chExt cx="3686760" cy="1665360"/>
          </a:xfrm>
        </p:grpSpPr>
        <p:pic>
          <p:nvPicPr>
            <p:cNvPr id="173" name="2%20franken" descr=""/>
            <p:cNvPicPr/>
            <p:nvPr/>
          </p:nvPicPr>
          <p:blipFill>
            <a:blip r:embed="rId8"/>
            <a:stretch/>
          </p:blipFill>
          <p:spPr>
            <a:xfrm>
              <a:off x="5805360" y="2286000"/>
              <a:ext cx="603360" cy="6094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4" name=""/>
            <p:cNvCxnSpPr/>
            <p:nvPr/>
          </p:nvCxnSpPr>
          <p:spPr>
            <a:xfrm flipH="1" rot="16200000">
              <a:off x="6109560" y="1268640"/>
              <a:ext cx="2160" cy="3687120"/>
            </a:xfrm>
            <a:prstGeom prst="curvedConnector5">
              <a:avLst>
                <a:gd name="adj1" fmla="val -56000000"/>
                <a:gd name="adj2" fmla="val 49995"/>
                <a:gd name="adj3" fmla="val -56000000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5715000" y="1447920"/>
              <a:ext cx="762120" cy="380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CH" sz="2000" spc="-1" strike="noStrike">
                  <a:solidFill>
                    <a:srgbClr val="ffffff"/>
                  </a:solidFill>
                  <a:latin typeface="Tahoma"/>
                </a:rPr>
                <a:t>3.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72040" y="1828800"/>
              <a:ext cx="228600" cy="380880"/>
            </a:xfrm>
            <a:prstGeom prst="upArrow">
              <a:avLst>
                <a:gd name="adj1" fmla="val 50000"/>
                <a:gd name="adj2" fmla="val 4165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52280" y="3200400"/>
            <a:ext cx="762120" cy="838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60960" y="4229280"/>
            <a:ext cx="6706080" cy="1409400"/>
            <a:chOff x="1560960" y="4229280"/>
            <a:chExt cx="6706080" cy="1409400"/>
          </a:xfrm>
        </p:grpSpPr>
        <p:cxnSp>
          <p:nvCxnSpPr>
            <p:cNvPr id="179" name=""/>
            <p:cNvCxnSpPr/>
            <p:nvPr/>
          </p:nvCxnSpPr>
          <p:spPr>
            <a:xfrm flipH="1" rot="16200000">
              <a:off x="4913280" y="876960"/>
              <a:ext cx="2160" cy="6706440"/>
            </a:xfrm>
            <a:prstGeom prst="curvedConnector5">
              <a:avLst>
                <a:gd name="adj1" fmla="val 56680000"/>
                <a:gd name="adj2" fmla="val 50000"/>
                <a:gd name="adj3" fmla="val 56680000"/>
              </a:avLst>
            </a:prstGeom>
            <a:ln w="76320">
              <a:solidFill>
                <a:srgbClr val="ff9900"/>
              </a:solidFill>
              <a:miter/>
              <a:headEnd len="med" type="triangle" w="med"/>
            </a:ln>
          </p:spPr>
        </p:cxnSp>
        <p:pic>
          <p:nvPicPr>
            <p:cNvPr id="180" name="ccau148" descr="Mystery Prize Can, with 'Always' logo (1996)"/>
            <p:cNvPicPr/>
            <p:nvPr/>
          </p:nvPicPr>
          <p:blipFill>
            <a:blip r:embed="rId9"/>
            <a:stretch/>
          </p:blipFill>
          <p:spPr>
            <a:xfrm>
              <a:off x="3429000" y="4419720"/>
              <a:ext cx="45864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572000" y="5257800"/>
              <a:ext cx="838080" cy="380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CH" sz="2000" spc="-1" strike="noStrike">
                  <a:solidFill>
                    <a:srgbClr val="ffffff"/>
                  </a:solidFill>
                  <a:latin typeface="Tahoma"/>
                </a:rPr>
                <a:t>0.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48320" y="4572000"/>
              <a:ext cx="685800" cy="3049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CH" sz="1800" spc="-1" strike="noStrike">
                  <a:solidFill>
                    <a:srgbClr val="ffffff"/>
                  </a:solidFill>
                  <a:latin typeface="Tahoma"/>
                </a:rPr>
                <a:t>Cok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00600" y="4927680"/>
              <a:ext cx="304920" cy="304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4114440" y="4419720"/>
              <a:ext cx="304920" cy="60948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599120" y="4266720"/>
            <a:ext cx="6706080" cy="2057760"/>
            <a:chOff x="1599120" y="4266720"/>
            <a:chExt cx="6706080" cy="2057760"/>
          </a:xfrm>
        </p:grpSpPr>
        <p:cxnSp>
          <p:nvCxnSpPr>
            <p:cNvPr id="186" name=""/>
            <p:cNvCxnSpPr/>
            <p:nvPr/>
          </p:nvCxnSpPr>
          <p:spPr>
            <a:xfrm flipH="1" rot="16200000">
              <a:off x="4951080" y="914760"/>
              <a:ext cx="2520" cy="6706440"/>
            </a:xfrm>
            <a:prstGeom prst="curvedConnector5">
              <a:avLst>
                <a:gd name="adj1" fmla="val 92383333"/>
                <a:gd name="adj2" fmla="val 50000"/>
                <a:gd name="adj3" fmla="val 92383333"/>
              </a:avLst>
            </a:prstGeom>
            <a:ln w="76320">
              <a:solidFill>
                <a:srgbClr val="ff9900"/>
              </a:solidFill>
              <a:miter/>
              <a:headEnd len="med" type="triangle" w="med"/>
            </a:ln>
          </p:spPr>
        </p:cxnSp>
        <p:pic>
          <p:nvPicPr>
            <p:cNvPr id="187" name="spau008" descr="Liquid Gold (1994)"/>
            <p:cNvPicPr/>
            <p:nvPr/>
          </p:nvPicPr>
          <p:blipFill>
            <a:blip r:embed="rId10"/>
            <a:stretch/>
          </p:blipFill>
          <p:spPr>
            <a:xfrm>
              <a:off x="6095880" y="5227560"/>
              <a:ext cx="473040" cy="10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95680" y="6019920"/>
              <a:ext cx="838440" cy="304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CH" sz="1800" spc="-1" strike="noStrike">
                  <a:solidFill>
                    <a:srgbClr val="ffffff"/>
                  </a:solidFill>
                  <a:latin typeface="Tahoma"/>
                </a:rPr>
                <a:t>Sp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0800000">
              <a:off x="4800240" y="5676480"/>
              <a:ext cx="30492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6200000">
              <a:off x="5562360" y="5790600"/>
              <a:ext cx="304920" cy="609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Das Leben eines Getränkeautomaten..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839880" y="1380960"/>
          <a:ext cx="4618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380960"/>
                    <a:ext cx="461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505080" y="1012680"/>
            <a:ext cx="2788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Fr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oder </a:t>
            </a: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3932280"/>
            <a:ext cx="1143000" cy="121932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6600"/>
                </a:solidFill>
                <a:latin typeface="Tahoma"/>
              </a:rPr>
              <a:t>0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932280"/>
            <a:ext cx="1143000" cy="121932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6600"/>
                </a:solidFill>
                <a:latin typeface="Tahoma"/>
              </a:rPr>
              <a:t>1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932280"/>
            <a:ext cx="1143000" cy="121932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6600"/>
                </a:solidFill>
                <a:latin typeface="Tahoma"/>
              </a:rPr>
              <a:t>2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24680" y="3932280"/>
            <a:ext cx="1143000" cy="121932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6600"/>
                </a:solidFill>
                <a:latin typeface="Tahoma"/>
              </a:rPr>
              <a:t>3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/>
          <p:nvPr/>
        </p:nvCxnSpPr>
        <p:spPr>
          <a:xfrm flipH="1" rot="16200000">
            <a:off x="2994480" y="3346200"/>
            <a:ext cx="2520" cy="1477080"/>
          </a:xfrm>
          <a:prstGeom prst="curvedConnector5">
            <a:avLst>
              <a:gd name="adj1" fmla="val -23200000"/>
              <a:gd name="adj2" fmla="val 50000"/>
              <a:gd name="adj3" fmla="val -23200000"/>
            </a:avLst>
          </a:prstGeom>
          <a:ln w="7632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00" name=""/>
          <p:cNvCxnSpPr/>
          <p:nvPr/>
        </p:nvCxnSpPr>
        <p:spPr>
          <a:xfrm flipH="1" rot="16200000">
            <a:off x="5232960" y="3334320"/>
            <a:ext cx="2160" cy="1477080"/>
          </a:xfrm>
          <a:prstGeom prst="curvedConnector5">
            <a:avLst>
              <a:gd name="adj1" fmla="val -23200000"/>
              <a:gd name="adj2" fmla="val 50000"/>
              <a:gd name="adj3" fmla="val -23200000"/>
            </a:avLst>
          </a:prstGeom>
          <a:ln w="7632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01" name=""/>
          <p:cNvCxnSpPr/>
          <p:nvPr/>
        </p:nvCxnSpPr>
        <p:spPr>
          <a:xfrm flipH="1" rot="16200000">
            <a:off x="7443000" y="3334320"/>
            <a:ext cx="2160" cy="1477080"/>
          </a:xfrm>
          <a:prstGeom prst="curvedConnector5">
            <a:avLst>
              <a:gd name="adj1" fmla="val -23200000"/>
              <a:gd name="adj2" fmla="val 50000"/>
              <a:gd name="adj3" fmla="val -23200000"/>
            </a:avLst>
          </a:prstGeom>
          <a:ln w="7632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02" name=""/>
          <p:cNvCxnSpPr/>
          <p:nvPr/>
        </p:nvCxnSpPr>
        <p:spPr>
          <a:xfrm flipH="1" rot="16200000">
            <a:off x="4099320" y="2241360"/>
            <a:ext cx="2520" cy="3686760"/>
          </a:xfrm>
          <a:prstGeom prst="curvedConnector5">
            <a:avLst>
              <a:gd name="adj1" fmla="val -56000000"/>
              <a:gd name="adj2" fmla="val 50000"/>
              <a:gd name="adj3" fmla="val -56000000"/>
            </a:avLst>
          </a:prstGeom>
          <a:ln w="7632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03" name=""/>
          <p:cNvCxnSpPr/>
          <p:nvPr/>
        </p:nvCxnSpPr>
        <p:spPr>
          <a:xfrm flipH="1" rot="16200000">
            <a:off x="6338160" y="2229120"/>
            <a:ext cx="2160" cy="3687120"/>
          </a:xfrm>
          <a:prstGeom prst="curvedConnector5">
            <a:avLst>
              <a:gd name="adj1" fmla="val -56000000"/>
              <a:gd name="adj2" fmla="val 49995"/>
              <a:gd name="adj3" fmla="val -56000000"/>
            </a:avLst>
          </a:prstGeom>
          <a:ln w="7632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204" name=""/>
          <p:cNvCxnSpPr/>
          <p:nvPr/>
        </p:nvCxnSpPr>
        <p:spPr>
          <a:xfrm flipH="1" rot="16200000">
            <a:off x="5141520" y="1837080"/>
            <a:ext cx="2520" cy="6706440"/>
          </a:xfrm>
          <a:prstGeom prst="curvedConnector5">
            <a:avLst>
              <a:gd name="adj1" fmla="val 56683333"/>
              <a:gd name="adj2" fmla="val 50000"/>
              <a:gd name="adj3" fmla="val 56683333"/>
            </a:avLst>
          </a:prstGeom>
          <a:ln w="76320">
            <a:solidFill>
              <a:srgbClr val="b2b2b2"/>
            </a:solidFill>
            <a:miter/>
            <a:headEnd len="med" type="triangle" w="med"/>
          </a:ln>
        </p:spPr>
      </p:cxnSp>
      <p:cxnSp>
        <p:nvCxnSpPr>
          <p:cNvPr id="205" name=""/>
          <p:cNvCxnSpPr/>
          <p:nvPr/>
        </p:nvCxnSpPr>
        <p:spPr>
          <a:xfrm flipH="1" rot="16200000">
            <a:off x="5179680" y="1875240"/>
            <a:ext cx="2520" cy="6706440"/>
          </a:xfrm>
          <a:prstGeom prst="curvedConnector5">
            <a:avLst>
              <a:gd name="adj1" fmla="val 92383333"/>
              <a:gd name="adj2" fmla="val 50000"/>
              <a:gd name="adj3" fmla="val 92383333"/>
            </a:avLst>
          </a:prstGeom>
          <a:ln w="76320">
            <a:solidFill>
              <a:srgbClr val="b2b2b2"/>
            </a:solidFill>
            <a:miter/>
            <a:head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57200" y="4114800"/>
            <a:ext cx="762120" cy="838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8240" y="5943600"/>
            <a:ext cx="1418040" cy="459720"/>
          </a:xfrm>
          <a:prstGeom prst="rect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cc6600"/>
                </a:solidFill>
                <a:latin typeface="Tahoma"/>
              </a:rPr>
              <a:t>Zu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2%20franken" descr=""/>
          <p:cNvPicPr/>
          <p:nvPr/>
        </p:nvPicPr>
        <p:blipFill>
          <a:blip r:embed="rId3"/>
          <a:stretch/>
        </p:blipFill>
        <p:spPr>
          <a:xfrm>
            <a:off x="2292480" y="1371600"/>
            <a:ext cx="603000" cy="6094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86000" y="2209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24382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2438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438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65440" y="974880"/>
            <a:ext cx="42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Tahoma"/>
              </a:rPr>
              <a:t>stellt sich der Automat in einem </a:t>
            </a:r>
            <a:r>
              <a:rPr b="1" lang="de-CH" sz="2000" spc="-1" strike="noStrike">
                <a:solidFill>
                  <a:srgbClr val="cc6600"/>
                </a:solidFill>
                <a:latin typeface="Tahoma"/>
              </a:rPr>
              <a:t>Zu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Tahoma"/>
              </a:rPr>
              <a:t>werden von seinen Sensoren beantwor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Das Leben eines Getränkeautomaten..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2666880" y="3500280"/>
          <a:ext cx="46224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500280"/>
                    <a:ext cx="462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2514600" y="4384800"/>
            <a:ext cx="762120" cy="3808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000" spc="-1" strike="noStrike">
                <a:solidFill>
                  <a:srgbClr val="ffffff"/>
                </a:solidFill>
                <a:latin typeface="Tahoma"/>
              </a:rPr>
              <a:t>1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43200" y="4079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967280" y="3546360"/>
          <a:ext cx="46188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3546360"/>
                    <a:ext cx="461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4724280" y="4384800"/>
            <a:ext cx="838440" cy="3808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000" spc="-1" strike="noStrike">
                <a:solidFill>
                  <a:srgbClr val="ffffff"/>
                </a:solidFill>
                <a:latin typeface="Tahoma"/>
              </a:rPr>
              <a:t>2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29200" y="4079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176960" y="3546360"/>
          <a:ext cx="46224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76960" y="3546360"/>
                    <a:ext cx="462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934320" y="4384800"/>
            <a:ext cx="8380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000" spc="-1" strike="noStrike">
                <a:solidFill>
                  <a:srgbClr val="ffffff"/>
                </a:solidFill>
                <a:latin typeface="Tahoma"/>
              </a:rPr>
              <a:t>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4079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2%20franken" descr=""/>
          <p:cNvPicPr/>
          <p:nvPr/>
        </p:nvPicPr>
        <p:blipFill>
          <a:blip r:embed="rId7"/>
          <a:stretch/>
        </p:blipFill>
        <p:spPr>
          <a:xfrm>
            <a:off x="3733920" y="3013200"/>
            <a:ext cx="603000" cy="609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657600" y="2174760"/>
            <a:ext cx="762120" cy="3812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000" spc="-1" strike="noStrike">
                <a:solidFill>
                  <a:srgbClr val="ffffff"/>
                </a:solidFill>
                <a:latin typeface="Tahoma"/>
              </a:rPr>
              <a:t>2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14640" y="25560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2%20franken" descr=""/>
          <p:cNvPicPr/>
          <p:nvPr/>
        </p:nvPicPr>
        <p:blipFill>
          <a:blip r:embed="rId8"/>
          <a:stretch/>
        </p:blipFill>
        <p:spPr>
          <a:xfrm>
            <a:off x="6033960" y="30132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896080" y="2174760"/>
            <a:ext cx="761760" cy="3812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000" spc="-1" strike="noStrike">
                <a:solidFill>
                  <a:srgbClr val="ffffff"/>
                </a:solidFill>
                <a:latin typeface="Tahoma"/>
              </a:rPr>
              <a:t>3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53120" y="25560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5985000"/>
            <a:ext cx="838080" cy="3808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000" spc="-1" strike="noStrike">
                <a:solidFill>
                  <a:srgbClr val="ffffff"/>
                </a:solidFill>
                <a:latin typeface="Tahoma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3703680"/>
            <a:ext cx="1143000" cy="1219320"/>
          </a:xfrm>
          <a:prstGeom prst="ellipse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b2b2b2"/>
                </a:solidFill>
                <a:latin typeface="Tahoma"/>
              </a:rPr>
              <a:t>0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3703680"/>
            <a:ext cx="1143000" cy="1219320"/>
          </a:xfrm>
          <a:prstGeom prst="ellipse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b2b2b2"/>
                </a:solidFill>
                <a:latin typeface="Tahoma"/>
              </a:rPr>
              <a:t>1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3703680"/>
            <a:ext cx="1143000" cy="1219320"/>
          </a:xfrm>
          <a:prstGeom prst="ellipse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b2b2b2"/>
                </a:solidFill>
                <a:latin typeface="Tahoma"/>
              </a:rPr>
              <a:t>2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3703680"/>
            <a:ext cx="1143000" cy="1219320"/>
          </a:xfrm>
          <a:prstGeom prst="ellipse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b2b2b2"/>
                </a:solidFill>
                <a:latin typeface="Tahoma"/>
              </a:rPr>
              <a:t>3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/>
          <p:nvPr/>
        </p:nvCxnSpPr>
        <p:spPr>
          <a:xfrm flipH="1" rot="16200000">
            <a:off x="2994480" y="3117600"/>
            <a:ext cx="2520" cy="1477080"/>
          </a:xfrm>
          <a:prstGeom prst="curvedConnector5">
            <a:avLst>
              <a:gd name="adj1" fmla="val -23200000"/>
              <a:gd name="adj2" fmla="val 50000"/>
              <a:gd name="adj3" fmla="val -23200000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39" name=""/>
          <p:cNvCxnSpPr/>
          <p:nvPr/>
        </p:nvCxnSpPr>
        <p:spPr>
          <a:xfrm flipH="1" rot="16200000">
            <a:off x="5232960" y="3105720"/>
            <a:ext cx="2160" cy="1477080"/>
          </a:xfrm>
          <a:prstGeom prst="curvedConnector5">
            <a:avLst>
              <a:gd name="adj1" fmla="val -23200000"/>
              <a:gd name="adj2" fmla="val 50000"/>
              <a:gd name="adj3" fmla="val -23200000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40" name=""/>
          <p:cNvCxnSpPr/>
          <p:nvPr/>
        </p:nvCxnSpPr>
        <p:spPr>
          <a:xfrm flipH="1" rot="16200000">
            <a:off x="7443000" y="3105720"/>
            <a:ext cx="2160" cy="1477080"/>
          </a:xfrm>
          <a:prstGeom prst="curvedConnector5">
            <a:avLst>
              <a:gd name="adj1" fmla="val -23200000"/>
              <a:gd name="adj2" fmla="val 50000"/>
              <a:gd name="adj3" fmla="val -23200000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41" name=""/>
          <p:cNvCxnSpPr/>
          <p:nvPr/>
        </p:nvCxnSpPr>
        <p:spPr>
          <a:xfrm flipH="1" rot="16200000">
            <a:off x="4099320" y="2012760"/>
            <a:ext cx="2520" cy="3686760"/>
          </a:xfrm>
          <a:prstGeom prst="curvedConnector5">
            <a:avLst>
              <a:gd name="adj1" fmla="val -56000000"/>
              <a:gd name="adj2" fmla="val 50000"/>
              <a:gd name="adj3" fmla="val -56000000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42" name=""/>
          <p:cNvCxnSpPr/>
          <p:nvPr/>
        </p:nvCxnSpPr>
        <p:spPr>
          <a:xfrm flipH="1" rot="16200000">
            <a:off x="6338160" y="2000520"/>
            <a:ext cx="2160" cy="3687120"/>
          </a:xfrm>
          <a:prstGeom prst="curvedConnector5">
            <a:avLst>
              <a:gd name="adj1" fmla="val -56000000"/>
              <a:gd name="adj2" fmla="val 49995"/>
              <a:gd name="adj3" fmla="val -56000000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5141520" y="1608480"/>
            <a:ext cx="2520" cy="6706440"/>
          </a:xfrm>
          <a:prstGeom prst="curvedConnector5">
            <a:avLst>
              <a:gd name="adj1" fmla="val 56683333"/>
              <a:gd name="adj2" fmla="val 50000"/>
              <a:gd name="adj3" fmla="val 56683333"/>
            </a:avLst>
          </a:prstGeom>
          <a:ln w="76320">
            <a:solidFill>
              <a:srgbClr val="ff9900"/>
            </a:solidFill>
            <a:miter/>
            <a:headEnd len="med" type="triangle" w="med"/>
          </a:ln>
        </p:spPr>
      </p:cxnSp>
      <p:cxnSp>
        <p:nvCxnSpPr>
          <p:cNvPr id="244" name=""/>
          <p:cNvCxnSpPr/>
          <p:nvPr/>
        </p:nvCxnSpPr>
        <p:spPr>
          <a:xfrm flipH="1" rot="16200000">
            <a:off x="5179680" y="1646640"/>
            <a:ext cx="2520" cy="6706440"/>
          </a:xfrm>
          <a:prstGeom prst="curvedConnector5">
            <a:avLst>
              <a:gd name="adj1" fmla="val 92383333"/>
              <a:gd name="adj2" fmla="val 50000"/>
              <a:gd name="adj3" fmla="val 92383333"/>
            </a:avLst>
          </a:prstGeom>
          <a:ln w="76320">
            <a:solidFill>
              <a:srgbClr val="ff9900"/>
            </a:solidFill>
            <a:miter/>
            <a:head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457200" y="3886200"/>
            <a:ext cx="762120" cy="838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6360" y="5867280"/>
            <a:ext cx="1694160" cy="45972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ff9900"/>
                </a:solidFill>
                <a:latin typeface="Tahoma"/>
              </a:rPr>
              <a:t>Über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74720" y="1206360"/>
          <a:ext cx="46188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4720" y="1206360"/>
                    <a:ext cx="461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440280" y="838080"/>
            <a:ext cx="2788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Fr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oder </a:t>
            </a: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2%20franken" descr=""/>
          <p:cNvPicPr/>
          <p:nvPr/>
        </p:nvPicPr>
        <p:blipFill>
          <a:blip r:embed="rId11"/>
          <a:stretch/>
        </p:blipFill>
        <p:spPr>
          <a:xfrm>
            <a:off x="2227320" y="1197000"/>
            <a:ext cx="603360" cy="609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220840" y="2035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20840" y="2133720"/>
            <a:ext cx="448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133720"/>
            <a:ext cx="0" cy="17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2133720"/>
            <a:ext cx="0" cy="17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65440" y="838080"/>
            <a:ext cx="428328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Tahoma"/>
              </a:rPr>
              <a:t>die Antwort darauf gibt der Automat in einem </a:t>
            </a:r>
            <a:r>
              <a:rPr b="1" lang="de-CH" sz="2000" spc="-1" strike="noStrike">
                <a:solidFill>
                  <a:srgbClr val="ff9900"/>
                </a:solidFill>
                <a:latin typeface="Tahoma"/>
              </a:rPr>
              <a:t>Überg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Tahoma"/>
              </a:rPr>
              <a:t>führt dabei gewisse Aktionen 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5257800"/>
            <a:ext cx="685800" cy="304920"/>
          </a:xfrm>
          <a:prstGeom prst="rect">
            <a:avLst/>
          </a:prstGeom>
          <a:solidFill>
            <a:srgbClr val="ff6b6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800" spc="-1" strike="noStrike">
                <a:solidFill>
                  <a:srgbClr val="ffffff"/>
                </a:solidFill>
                <a:latin typeface="Tahoma"/>
              </a:rPr>
              <a:t>Co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561348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4343040" y="510552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6553080"/>
            <a:ext cx="838440" cy="304920"/>
          </a:xfrm>
          <a:prstGeom prst="rect">
            <a:avLst/>
          </a:prstGeom>
          <a:solidFill>
            <a:srgbClr val="6bff6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800" spc="-1" strike="noStrike">
                <a:solidFill>
                  <a:srgbClr val="ffffff"/>
                </a:solidFill>
                <a:latin typeface="Tahoma"/>
              </a:rPr>
              <a:t>Sp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0800000">
            <a:off x="5028840" y="6362280"/>
            <a:ext cx="304920" cy="266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5790960" y="64000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ccau148" descr="Mystery Prize Can, with 'Always' logo (1996)"/>
          <p:cNvPicPr/>
          <p:nvPr/>
        </p:nvPicPr>
        <p:blipFill>
          <a:blip r:embed="rId12"/>
          <a:stretch/>
        </p:blipFill>
        <p:spPr>
          <a:xfrm>
            <a:off x="3657600" y="5105520"/>
            <a:ext cx="458640" cy="990360"/>
          </a:xfrm>
          <a:prstGeom prst="rect">
            <a:avLst/>
          </a:prstGeom>
          <a:ln w="0">
            <a:noFill/>
          </a:ln>
        </p:spPr>
      </p:pic>
      <p:pic>
        <p:nvPicPr>
          <p:cNvPr id="263" name="spau008" descr="Liquid Gold (1994)"/>
          <p:cNvPicPr/>
          <p:nvPr/>
        </p:nvPicPr>
        <p:blipFill>
          <a:blip r:embed="rId13"/>
          <a:stretch/>
        </p:blipFill>
        <p:spPr>
          <a:xfrm>
            <a:off x="6400800" y="5837400"/>
            <a:ext cx="473040" cy="1020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Das Leben eines Getränkeautomaten..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0880" y="179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8640" y="2987640"/>
            <a:ext cx="402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s Progra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 Zustand „suche Baum“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 Sensor „stehe 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aum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2120" y="1082520"/>
            <a:ext cx="46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e Aufgabe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is zum nächsten Baumstum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ufen, dann 180° Drehu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181480" y="990720"/>
          <a:ext cx="274320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990720"/>
                    <a:ext cx="274320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334120" y="3002040"/>
          <a:ext cx="262872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02040"/>
                    <a:ext cx="262872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724280" y="4648320"/>
          <a:ext cx="358164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648320"/>
                    <a:ext cx="35816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Kara sucht einen Baumstumpf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79320" y="990720"/>
            <a:ext cx="0" cy="502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9000" y="608472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51080" y="2573280"/>
            <a:ext cx="66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21280" y="94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7640" y="905040"/>
            <a:ext cx="282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ensorwerte betrachte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Zeile auswäh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Befehle ausfüh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29080" y="2428920"/>
            <a:ext cx="30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n nächsten Zustand g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9760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440" y="3505320"/>
            <a:ext cx="282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Sensorwerte betrachte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Zeile auswäh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Befehle ausfüh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29080" y="6048360"/>
            <a:ext cx="30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de-CH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In nächsten Zustand g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066680" y="1066680"/>
          <a:ext cx="167652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1676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990720" y="3505320"/>
          <a:ext cx="1752480" cy="114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505320"/>
                    <a:ext cx="1752480" cy="11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3048120" y="990720"/>
          <a:ext cx="2292120" cy="11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990720"/>
                    <a:ext cx="22921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657600" y="2209680"/>
          <a:ext cx="1473120" cy="82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2209680"/>
                    <a:ext cx="14731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3019320" y="3343320"/>
          <a:ext cx="231480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9320" y="3343320"/>
                    <a:ext cx="23148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3048120" y="4605480"/>
          <a:ext cx="2288880" cy="118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8120" y="4605480"/>
                    <a:ext cx="22888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3784680" y="5881680"/>
          <a:ext cx="1473120" cy="824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84680" y="5881680"/>
                    <a:ext cx="14731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Kara sucht einen Baumstumpf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61720" y="1082520"/>
            <a:ext cx="438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e Aufgabe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le Blätter bis zum nächs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aumstumpf aufnehm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7640" y="3139920"/>
            <a:ext cx="415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s Programm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 Zustand „collect leaves“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nötigt zwei Sens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876920" y="1193760"/>
          <a:ext cx="337824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193760"/>
                    <a:ext cx="337824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4800600" y="2666880"/>
          <a:ext cx="2514600" cy="13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666880"/>
                    <a:ext cx="25146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876920" y="4267080"/>
          <a:ext cx="2743200" cy="21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4267080"/>
                    <a:ext cx="274320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Kara, der Blättersammler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26080" y="1082520"/>
            <a:ext cx="477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e Aufgabe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aum linksherum bis Kleeblat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nn rechtsherum bis Kleeblat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nn linksherum... l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2720" y="3139920"/>
            <a:ext cx="369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s Programm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wei Zustän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er für Linksdrehu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er für Rechtsdre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638680" y="1104840"/>
          <a:ext cx="266724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04840"/>
                    <a:ext cx="266724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4191120" y="2895480"/>
          <a:ext cx="1841400" cy="184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95480"/>
                    <a:ext cx="184140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57200" y="4849920"/>
          <a:ext cx="3502080" cy="18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849920"/>
                    <a:ext cx="350208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343400" y="4876920"/>
          <a:ext cx="3562200" cy="18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4876920"/>
                    <a:ext cx="35622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Kara, der Wächter (1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12640" y="1006560"/>
            <a:ext cx="44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s Programm: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in Zustan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14560" y="3621240"/>
            <a:ext cx="695160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4848c2"/>
                </a:solidFill>
                <a:latin typeface="Tahoma"/>
              </a:rPr>
              <a:t>Welche Lösung ist „besser“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Lesbarkeit des Programm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Anzahl Befehle: Weniger = bess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Anzahl Zustände: Weniger = bess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4848c2"/>
                </a:solidFill>
                <a:latin typeface="Symbol"/>
                <a:ea typeface="Symbol"/>
              </a:rPr>
              <a:t></a:t>
            </a:r>
            <a:r>
              <a:rPr b="0" lang="de-DE" sz="2200" spc="-1" strike="noStrike">
                <a:solidFill>
                  <a:srgbClr val="4848c2"/>
                </a:solidFill>
                <a:latin typeface="Tahoma"/>
              </a:rPr>
              <a:t> </a:t>
            </a:r>
            <a:r>
              <a:rPr b="1" lang="de-DE" sz="2200" spc="-1" strike="noStrike">
                <a:solidFill>
                  <a:srgbClr val="4848c2"/>
                </a:solidFill>
                <a:latin typeface="Tahoma"/>
              </a:rPr>
              <a:t>Eine Frage des persönlichen Programmierstil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848c2"/>
                </a:solidFill>
                <a:latin typeface="Wingdings"/>
                <a:ea typeface="Wingdings"/>
              </a:rPr>
              <a:t></a:t>
            </a:r>
            <a:r>
              <a:rPr b="1" lang="de-CH" sz="3600" spc="-1" strike="noStrike">
                <a:solidFill>
                  <a:srgbClr val="4848c2"/>
                </a:solidFill>
                <a:latin typeface="Tahoma"/>
              </a:rPr>
              <a:t> </a:t>
            </a:r>
            <a:r>
              <a:rPr b="1" lang="de-CH" sz="3600" spc="-1" strike="noStrike">
                <a:solidFill>
                  <a:srgbClr val="4848c2"/>
                </a:solidFill>
                <a:latin typeface="Wingdings"/>
                <a:ea typeface="Wingdings"/>
              </a:rPr>
              <a:t></a:t>
            </a:r>
            <a:r>
              <a:rPr b="1" lang="de-CH" sz="3600" spc="-1" strike="noStrike">
                <a:solidFill>
                  <a:srgbClr val="4848c2"/>
                </a:solidFill>
                <a:latin typeface="Tahoma"/>
              </a:rPr>
              <a:t> </a:t>
            </a:r>
            <a:r>
              <a:rPr b="1" lang="de-CH" sz="3600" spc="-1" strike="noStrike">
                <a:solidFill>
                  <a:srgbClr val="4848c2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181480" y="1143000"/>
          <a:ext cx="335304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143000"/>
                    <a:ext cx="335304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Kara, der Wächter (</a:t>
            </a: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kara_gross" descr=""/>
          <p:cNvPicPr/>
          <p:nvPr/>
        </p:nvPicPr>
        <p:blipFill>
          <a:blip r:embed="rId1"/>
          <a:stretch/>
        </p:blipFill>
        <p:spPr>
          <a:xfrm>
            <a:off x="6477120" y="838080"/>
            <a:ext cx="2387520" cy="22021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Übung 1: Kara kennenlernen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57200" y="914400"/>
          <a:ext cx="42210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14400"/>
                    <a:ext cx="422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8" name="sept2000_007" descr=""/>
          <p:cNvPicPr/>
          <p:nvPr/>
        </p:nvPicPr>
        <p:blipFill>
          <a:blip r:embed="rId4"/>
          <a:stretch/>
        </p:blipFill>
        <p:spPr>
          <a:xfrm>
            <a:off x="4038480" y="302904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3200" y="1079640"/>
            <a:ext cx="720036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848c2"/>
                </a:solidFill>
                <a:latin typeface="Tahoma"/>
              </a:rPr>
              <a:t>Programmieren heisst: Probleme lös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Tahoma"/>
              </a:rPr>
              <a:t>die Probleme zu analys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Tahoma"/>
              </a:rPr>
              <a:t>Lösungen zu entwer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Tahoma"/>
              </a:rPr>
              <a:t>in Abläufen zu de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Tahoma"/>
              </a:rPr>
              <a:t>strikt logisch zu de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333399"/>
                </a:solidFill>
                <a:latin typeface="Tahoma"/>
              </a:rPr>
              <a:t>und die Lösung in Programme umzusetz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73680" y="3884760"/>
            <a:ext cx="914400" cy="556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73680" y="1979640"/>
            <a:ext cx="417600" cy="833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383160" y="2665440"/>
            <a:ext cx="32256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5773680" y="4875120"/>
          <a:ext cx="762120" cy="61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3680" y="4875120"/>
                    <a:ext cx="7621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Grundlagen</a:t>
            </a: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der Programmierung 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Kara, der programmierbare Marienkäfer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914400"/>
          <a:ext cx="531000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5310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kara_gross" descr=""/>
          <p:cNvPicPr/>
          <p:nvPr/>
        </p:nvPicPr>
        <p:blipFill>
          <a:blip r:embed="rId3"/>
          <a:stretch/>
        </p:blipFill>
        <p:spPr>
          <a:xfrm>
            <a:off x="4826160" y="2895480"/>
            <a:ext cx="386064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9840" y="990720"/>
            <a:ext cx="536940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9368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.. gib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 indent="-3240"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bewegliche </a:t>
            </a:r>
            <a:r>
              <a:rPr b="1" lang="de-DE" sz="2400" spc="-1" strike="noStrike">
                <a:solidFill>
                  <a:srgbClr val="990000"/>
                </a:solidFill>
                <a:latin typeface="Tahoma"/>
              </a:rPr>
              <a:t>Baumstümpfe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 indent="-3240"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Tahoma"/>
              </a:rPr>
              <a:t>Pilze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, die Kara verschieben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3680" indent="-3240"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  <a:tab algn="l" pos="40672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8000"/>
                </a:solidFill>
                <a:latin typeface="Tahoma"/>
              </a:rPr>
              <a:t>Kleeblätter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, die Kara legen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d aufnehmen kan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9368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93680"/>
                <a:tab algn="l" pos="387360"/>
                <a:tab algn="l" pos="581040"/>
                <a:tab algn="l" pos="774720"/>
                <a:tab algn="l" pos="968400"/>
                <a:tab algn="l" pos="1162080"/>
                <a:tab algn="l" pos="1355760"/>
                <a:tab algn="l" pos="1549440"/>
                <a:tab algn="l" pos="1743120"/>
                <a:tab algn="l" pos="1936800"/>
                <a:tab algn="l" pos="2130480"/>
                <a:tab algn="l" pos="2324160"/>
                <a:tab algn="l" pos="2517840"/>
                <a:tab algn="l" pos="2711520"/>
                <a:tab algn="l" pos="2905200"/>
                <a:tab algn="l" pos="3098880"/>
                <a:tab algn="l" pos="3292560"/>
                <a:tab algn="l" pos="3486240"/>
                <a:tab algn="l" pos="3679920"/>
                <a:tab algn="l" pos="3873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... und natürlich Kara selb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69040" y="2743200"/>
          <a:ext cx="3440160" cy="37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9040" y="2743200"/>
                    <a:ext cx="344016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In der Welt des Marienkäfers..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8120" y="1066680"/>
            <a:ext cx="44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 </a:t>
            </a: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hat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nsoren</a:t>
            </a: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, mit den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er seine Umwelt wahrnimm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2880" y="1920960"/>
            <a:ext cx="30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ehe ich vor eine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aumstump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6680" y="2774880"/>
            <a:ext cx="269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ist links von m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ein Baumstump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02960" y="3673440"/>
            <a:ext cx="274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ist rechts von m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ein Baumstump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25640" y="4527720"/>
            <a:ext cx="20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stehe ich v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einem Pil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2880" y="5349960"/>
            <a:ext cx="25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stehe ich au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einem Kleeblat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5760" y="10666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 </a:t>
            </a: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versteht einige </a:t>
            </a: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Befehle</a:t>
            </a: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die er folgsam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füh</a:t>
            </a: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r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72240" y="547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45920" y="1920960"/>
            <a:ext cx="30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mache einen Sch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vorwär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76160" y="274320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drehe um 90° n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link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76160" y="367344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drehe um 90° n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recht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0600" y="464832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lege ein Kleeblatt h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38000" y="5486400"/>
            <a:ext cx="35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nimm ein Kleeblatt au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sensor_treefront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sensor_treeleft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8" name="sensor_treeright" descr=""/>
          <p:cNvPicPr/>
          <p:nvPr/>
        </p:nvPicPr>
        <p:blipFill>
          <a:blip r:embed="rId3"/>
          <a:stretch/>
        </p:blipFill>
        <p:spPr>
          <a:xfrm>
            <a:off x="380880" y="3809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79" name="sensor_mushroomfront" descr=""/>
          <p:cNvPicPr/>
          <p:nvPr/>
        </p:nvPicPr>
        <p:blipFill>
          <a:blip r:embed="rId4"/>
          <a:stretch/>
        </p:blipFill>
        <p:spPr>
          <a:xfrm>
            <a:off x="380880" y="46483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0" name="sensor_onleaf" descr=""/>
          <p:cNvPicPr/>
          <p:nvPr/>
        </p:nvPicPr>
        <p:blipFill>
          <a:blip r:embed="rId5"/>
          <a:stretch/>
        </p:blipFill>
        <p:spPr>
          <a:xfrm>
            <a:off x="457200" y="5486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command_move" descr=""/>
          <p:cNvPicPr/>
          <p:nvPr/>
        </p:nvPicPr>
        <p:blipFill>
          <a:blip r:embed="rId6"/>
          <a:stretch/>
        </p:blipFill>
        <p:spPr>
          <a:xfrm>
            <a:off x="4800600" y="213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command_turnleft" descr=""/>
          <p:cNvPicPr/>
          <p:nvPr/>
        </p:nvPicPr>
        <p:blipFill>
          <a:blip r:embed="rId7"/>
          <a:stretch/>
        </p:blipFill>
        <p:spPr>
          <a:xfrm>
            <a:off x="4800600" y="2971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command_turnright" descr=""/>
          <p:cNvPicPr/>
          <p:nvPr/>
        </p:nvPicPr>
        <p:blipFill>
          <a:blip r:embed="rId8"/>
          <a:stretch/>
        </p:blipFill>
        <p:spPr>
          <a:xfrm>
            <a:off x="4800600" y="3886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4" name="command_putleaf" descr=""/>
          <p:cNvPicPr/>
          <p:nvPr/>
        </p:nvPicPr>
        <p:blipFill>
          <a:blip r:embed="rId9"/>
          <a:stretch/>
        </p:blipFill>
        <p:spPr>
          <a:xfrm>
            <a:off x="4800600" y="4724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85" name="command_removeleaf" descr=""/>
          <p:cNvPicPr/>
          <p:nvPr/>
        </p:nvPicPr>
        <p:blipFill>
          <a:blip r:embed="rId10"/>
          <a:stretch/>
        </p:blipFill>
        <p:spPr>
          <a:xfrm>
            <a:off x="4800600" y="55627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Kara, der Marienkäfer..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Automaten im Alltag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257800" y="3048120"/>
            <a:ext cx="1675800" cy="3636360"/>
            <a:chOff x="5257800" y="3048120"/>
            <a:chExt cx="1675800" cy="363636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5257800" y="3048120"/>
              <a:ext cx="1301040" cy="1475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0" name=""/>
            <p:cNvGraphicFramePr/>
            <p:nvPr/>
          </p:nvGraphicFramePr>
          <p:xfrm>
            <a:off x="5979240" y="4511160"/>
            <a:ext cx="175680" cy="2173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79240" y="4511160"/>
                      <a:ext cx="175680" cy="217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"/>
            <p:cNvGraphicFramePr/>
            <p:nvPr/>
          </p:nvGraphicFramePr>
          <p:xfrm>
            <a:off x="6149880" y="5067720"/>
            <a:ext cx="783720" cy="754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149880" y="5067720"/>
                      <a:ext cx="783720" cy="75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4" name="B1WTV3003ABIG" descr=""/>
          <p:cNvPicPr/>
          <p:nvPr/>
        </p:nvPicPr>
        <p:blipFill>
          <a:blip r:embed="rId6"/>
          <a:stretch/>
        </p:blipFill>
        <p:spPr>
          <a:xfrm>
            <a:off x="3352680" y="3990960"/>
            <a:ext cx="1944720" cy="2638440"/>
          </a:xfrm>
          <a:prstGeom prst="rect">
            <a:avLst/>
          </a:prstGeom>
          <a:ln w="0">
            <a:noFill/>
          </a:ln>
        </p:spPr>
      </p:pic>
      <p:pic>
        <p:nvPicPr>
          <p:cNvPr id="95" name="ticket_automat" descr="Billettautomat"/>
          <p:cNvPicPr/>
          <p:nvPr/>
        </p:nvPicPr>
        <p:blipFill>
          <a:blip r:embed="rId7"/>
          <a:stretch/>
        </p:blipFill>
        <p:spPr>
          <a:xfrm>
            <a:off x="6561000" y="1066680"/>
            <a:ext cx="2162160" cy="266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4724280" y="1066680"/>
          <a:ext cx="1084320" cy="2078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24280" y="1066680"/>
                    <a:ext cx="1084320" cy="20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epsi" descr="Pepsi Vending Machine"/>
          <p:cNvPicPr/>
          <p:nvPr/>
        </p:nvPicPr>
        <p:blipFill>
          <a:blip r:embed="rId10"/>
          <a:stretch/>
        </p:blipFill>
        <p:spPr>
          <a:xfrm>
            <a:off x="228600" y="1295280"/>
            <a:ext cx="1792440" cy="3259080"/>
          </a:xfrm>
          <a:prstGeom prst="rect">
            <a:avLst/>
          </a:prstGeom>
          <a:ln w="0">
            <a:noFill/>
          </a:ln>
        </p:spPr>
      </p:pic>
      <p:pic>
        <p:nvPicPr>
          <p:cNvPr id="99" name="801982l" descr=""/>
          <p:cNvPicPr/>
          <p:nvPr/>
        </p:nvPicPr>
        <p:blipFill>
          <a:blip r:embed="rId11"/>
          <a:stretch/>
        </p:blipFill>
        <p:spPr>
          <a:xfrm>
            <a:off x="7559640" y="4516560"/>
            <a:ext cx="1584360" cy="21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52280" y="4952880"/>
          <a:ext cx="2733840" cy="1409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52280" y="4952880"/>
                    <a:ext cx="273384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ATM" descr=""/>
          <p:cNvPicPr/>
          <p:nvPr/>
        </p:nvPicPr>
        <p:blipFill>
          <a:blip r:embed="rId14"/>
          <a:stretch/>
        </p:blipFill>
        <p:spPr>
          <a:xfrm>
            <a:off x="2362320" y="13716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Ein ganz einfacher Automat: Lichtschalter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lichtschalter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133720" y="4343400"/>
            <a:ext cx="1447560" cy="144792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L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4343400"/>
            <a:ext cx="1447560" cy="144792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L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7"/>
            <a:endCxn id="106" idx="1"/>
          </p:cNvCxnSpPr>
          <p:nvPr/>
        </p:nvCxnSpPr>
        <p:spPr>
          <a:xfrm flipH="1" rot="16200000">
            <a:off x="5028480" y="2857680"/>
            <a:ext cx="2160" cy="3322080"/>
          </a:xfrm>
          <a:prstGeom prst="curvedConnector5">
            <a:avLst>
              <a:gd name="adj1" fmla="val -39100000"/>
              <a:gd name="adj2" fmla="val 49994"/>
              <a:gd name="adj3" fmla="val -39100000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6" idx="3"/>
            <a:endCxn id="105" idx="5"/>
          </p:cNvCxnSpPr>
          <p:nvPr/>
        </p:nvCxnSpPr>
        <p:spPr>
          <a:xfrm rot="5400000">
            <a:off x="5027760" y="3956760"/>
            <a:ext cx="2160" cy="3322080"/>
          </a:xfrm>
          <a:prstGeom prst="curvedConnector5">
            <a:avLst>
              <a:gd name="adj1" fmla="val 41280000"/>
              <a:gd name="adj2" fmla="val 49994"/>
              <a:gd name="adj3" fmla="val 41280000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370400" y="388620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drü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70400" y="579132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drü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648320"/>
            <a:ext cx="1295280" cy="838080"/>
          </a:xfrm>
          <a:prstGeom prst="rightArrow">
            <a:avLst>
              <a:gd name="adj1" fmla="val 50000"/>
              <a:gd name="adj2" fmla="val 38638"/>
            </a:avLst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1434960"/>
            <a:ext cx="474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Ein Lichtschalter hat nur zwei Zustände, ein und a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Ein „Sensor“ meldet, wenn der Schalter betätigt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Ein wenig komplexer: Videogerä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80880" y="1143000"/>
          <a:ext cx="335304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335304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828800" y="4267080"/>
            <a:ext cx="1447920" cy="144792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Tahoma"/>
              </a:rPr>
              <a:t>Nic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Tahoma"/>
              </a:rPr>
              <a:t>t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191120"/>
            <a:ext cx="1447920" cy="144756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Tahoma"/>
              </a:rPr>
              <a:t>abspi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7"/>
            <a:endCxn id="117" idx="1"/>
          </p:cNvCxnSpPr>
          <p:nvPr/>
        </p:nvCxnSpPr>
        <p:spPr>
          <a:xfrm flipH="1" flipV="1" rot="5400000">
            <a:off x="3962160" y="3466440"/>
            <a:ext cx="76680" cy="1873800"/>
          </a:xfrm>
          <a:prstGeom prst="curvedConnector5">
            <a:avLst>
              <a:gd name="adj1" fmla="val 628773"/>
              <a:gd name="adj2" fmla="val 50000"/>
              <a:gd name="adj3" fmla="val 628773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3"/>
            <a:endCxn id="116" idx="5"/>
          </p:cNvCxnSpPr>
          <p:nvPr/>
        </p:nvCxnSpPr>
        <p:spPr>
          <a:xfrm rot="5400000">
            <a:off x="3961800" y="4565520"/>
            <a:ext cx="76680" cy="1873800"/>
          </a:xfrm>
          <a:prstGeom prst="curvedConnector5">
            <a:avLst>
              <a:gd name="adj1" fmla="val 632075"/>
              <a:gd name="adj2" fmla="val 50000"/>
              <a:gd name="adj3" fmla="val 632075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504600" y="401148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play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86600" y="54594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stop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572000"/>
            <a:ext cx="1295280" cy="838080"/>
          </a:xfrm>
          <a:prstGeom prst="rightArrow">
            <a:avLst>
              <a:gd name="adj1" fmla="val 50000"/>
              <a:gd name="adj2" fmla="val 38638"/>
            </a:avLst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4114800"/>
            <a:ext cx="1447920" cy="1447920"/>
          </a:xfrm>
          <a:prstGeom prst="ellipse">
            <a:avLst/>
          </a:prstGeom>
          <a:noFill/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Tahoma"/>
              </a:rPr>
              <a:t>Wa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7" idx="7"/>
            <a:endCxn id="123" idx="1"/>
          </p:cNvCxnSpPr>
          <p:nvPr/>
        </p:nvCxnSpPr>
        <p:spPr>
          <a:xfrm flipH="1" flipV="1" rot="5400000">
            <a:off x="6781680" y="3467160"/>
            <a:ext cx="76680" cy="1721520"/>
          </a:xfrm>
          <a:prstGeom prst="curvedConnector5">
            <a:avLst>
              <a:gd name="adj1" fmla="val 632075"/>
              <a:gd name="adj2" fmla="val 49989"/>
              <a:gd name="adj3" fmla="val 632075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6219360" y="40114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paus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3" idx="3"/>
            <a:endCxn id="117" idx="5"/>
          </p:cNvCxnSpPr>
          <p:nvPr/>
        </p:nvCxnSpPr>
        <p:spPr>
          <a:xfrm rot="5400000">
            <a:off x="6781320" y="4565520"/>
            <a:ext cx="76680" cy="1721520"/>
          </a:xfrm>
          <a:prstGeom prst="curvedConnector5">
            <a:avLst>
              <a:gd name="adj1" fmla="val 628773"/>
              <a:gd name="adj2" fmla="val 49989"/>
              <a:gd name="adj3" fmla="val 628773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6387480" y="538308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play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3" idx="3"/>
            <a:endCxn id="116" idx="5"/>
          </p:cNvCxnSpPr>
          <p:nvPr/>
        </p:nvCxnSpPr>
        <p:spPr>
          <a:xfrm rot="5400000">
            <a:off x="5295240" y="3155760"/>
            <a:ext cx="153000" cy="4617000"/>
          </a:xfrm>
          <a:prstGeom prst="curvedConnector5">
            <a:avLst>
              <a:gd name="adj1" fmla="val 773820"/>
              <a:gd name="adj2" fmla="val 50000"/>
              <a:gd name="adj3" fmla="val 773820"/>
            </a:avLst>
          </a:prstGeom>
          <a:ln w="7632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4612320" y="614520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Tahoma"/>
              </a:rPr>
              <a:t>Time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967560" y="1295280"/>
            <a:ext cx="2827440" cy="3070800"/>
            <a:chOff x="3967560" y="1295280"/>
            <a:chExt cx="2827440" cy="3070800"/>
          </a:xfrm>
        </p:grpSpPr>
        <p:sp>
          <p:nvSpPr>
            <p:cNvPr id="131" name=""/>
            <p:cNvSpPr/>
            <p:nvPr/>
          </p:nvSpPr>
          <p:spPr>
            <a:xfrm>
              <a:off x="4724280" y="1295280"/>
              <a:ext cx="1447920" cy="1447920"/>
            </a:xfrm>
            <a:prstGeom prst="ellipse">
              <a:avLst/>
            </a:prstGeom>
            <a:noFill/>
            <a:ln w="76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2000" spc="-1" strike="noStrike">
                  <a:solidFill>
                    <a:srgbClr val="000000"/>
                  </a:solidFill>
                  <a:latin typeface="Tahoma"/>
                </a:rPr>
                <a:t>Spul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17" idx="1"/>
              <a:endCxn id="131" idx="2"/>
            </p:cNvCxnSpPr>
            <p:nvPr/>
          </p:nvCxnSpPr>
          <p:spPr>
            <a:xfrm flipV="1" rot="16200000">
              <a:off x="3638520" y="3066840"/>
              <a:ext cx="2347200" cy="250920"/>
            </a:xfrm>
            <a:prstGeom prst="curvedConnector5">
              <a:avLst>
                <a:gd name="adj1" fmla="val 38288"/>
                <a:gd name="adj2" fmla="val 88074"/>
                <a:gd name="adj3" fmla="val 38288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31" idx="6"/>
              <a:endCxn id="117" idx="7"/>
            </p:cNvCxnSpPr>
            <p:nvPr/>
          </p:nvCxnSpPr>
          <p:spPr>
            <a:xfrm flipH="1">
              <a:off x="5958720" y="2019240"/>
              <a:ext cx="251640" cy="2347200"/>
            </a:xfrm>
            <a:prstGeom prst="curvedConnector5">
              <a:avLst>
                <a:gd name="adj1" fmla="val -75931"/>
                <a:gd name="adj2" fmla="val 30848"/>
                <a:gd name="adj3" fmla="val -75931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5922360" y="2971800"/>
              <a:ext cx="87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000" spc="-1" strike="noStrike">
                  <a:solidFill>
                    <a:srgbClr val="000000"/>
                  </a:solidFill>
                  <a:latin typeface="Tahoma"/>
                </a:rPr>
                <a:t>„</a:t>
              </a:r>
              <a:r>
                <a:rPr b="0" lang="de-CH" sz="2000" spc="-1" strike="noStrike">
                  <a:solidFill>
                    <a:srgbClr val="000000"/>
                  </a:solidFill>
                  <a:latin typeface="Tahoma"/>
                </a:rPr>
                <a:t>play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7560" y="2819520"/>
              <a:ext cx="132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000" spc="-1" strike="noStrike">
                  <a:solidFill>
                    <a:srgbClr val="000000"/>
                  </a:solidFill>
                  <a:latin typeface="Tahoma"/>
                </a:rPr>
                <a:t>„</a:t>
              </a:r>
              <a:r>
                <a:rPr b="0" lang="de-CH" sz="2000" spc="-1" strike="noStrike">
                  <a:solidFill>
                    <a:srgbClr val="000000"/>
                  </a:solidFill>
                  <a:latin typeface="Tahoma"/>
                </a:rPr>
                <a:t>forward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2000" spc="-1" strike="noStrike">
                  <a:solidFill>
                    <a:srgbClr val="000000"/>
                  </a:solidFill>
                  <a:latin typeface="Tahoma"/>
                </a:rPr>
                <a:t>„</a:t>
              </a:r>
              <a:r>
                <a:rPr b="0" lang="de-CH" sz="2000" spc="-1" strike="noStrike">
                  <a:solidFill>
                    <a:srgbClr val="000000"/>
                  </a:solidFill>
                  <a:latin typeface="Tahoma"/>
                </a:rPr>
                <a:t>rewind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epsi" descr="Pepsi Vending Machine"/>
          <p:cNvPicPr/>
          <p:nvPr/>
        </p:nvPicPr>
        <p:blipFill>
          <a:blip r:embed="rId1"/>
          <a:stretch/>
        </p:blipFill>
        <p:spPr>
          <a:xfrm>
            <a:off x="1219320" y="914400"/>
            <a:ext cx="3270240" cy="5943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76920" y="1420920"/>
            <a:ext cx="367344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Dieser Automa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akzeptiert n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zeigt eingeworfenen Betrag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gibt nur  </a:t>
            </a: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  aus</a:t>
            </a:r>
            <a:br>
              <a:rPr sz="2400"/>
            </a:br>
            <a:br>
              <a:rPr sz="2400"/>
            </a:br>
            <a:r>
              <a:rPr b="1" lang="de-CH" sz="2400" spc="-1" strike="noStrike">
                <a:solidFill>
                  <a:srgbClr val="000000"/>
                </a:solidFill>
                <a:latin typeface="Tahoma"/>
              </a:rPr>
              <a:t>für 3,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183280" y="2600280"/>
          <a:ext cx="46188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3280" y="2600280"/>
                    <a:ext cx="4618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2%20franken" descr=""/>
          <p:cNvPicPr/>
          <p:nvPr/>
        </p:nvPicPr>
        <p:blipFill>
          <a:blip r:embed="rId4"/>
          <a:stretch/>
        </p:blipFill>
        <p:spPr>
          <a:xfrm>
            <a:off x="6635880" y="2590920"/>
            <a:ext cx="603000" cy="609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81480" y="4495680"/>
            <a:ext cx="838440" cy="3812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2000" spc="-1" strike="noStrike">
                <a:solidFill>
                  <a:srgbClr val="ffffff"/>
                </a:solidFill>
                <a:latin typeface="Tahoma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cau148" descr="Mystery Prize Can, with 'Always' logo (1996)"/>
          <p:cNvPicPr/>
          <p:nvPr/>
        </p:nvPicPr>
        <p:blipFill>
          <a:blip r:embed="rId5"/>
          <a:stretch/>
        </p:blipFill>
        <p:spPr>
          <a:xfrm>
            <a:off x="6553080" y="5151600"/>
            <a:ext cx="459000" cy="990360"/>
          </a:xfrm>
          <a:prstGeom prst="rect">
            <a:avLst/>
          </a:prstGeom>
          <a:ln w="0">
            <a:noFill/>
          </a:ln>
        </p:spPr>
      </p:pic>
      <p:pic>
        <p:nvPicPr>
          <p:cNvPr id="143" name="spau008" descr="Liquid Gold (1994)"/>
          <p:cNvPicPr/>
          <p:nvPr/>
        </p:nvPicPr>
        <p:blipFill>
          <a:blip r:embed="rId6"/>
          <a:stretch/>
        </p:blipFill>
        <p:spPr>
          <a:xfrm>
            <a:off x="7238880" y="5151600"/>
            <a:ext cx="473040" cy="10206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Tahoma"/>
              </a:rPr>
              <a:t>Getränkeautomate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imond Reichert</cp:lastModifiedBy>
  <cp:lastPrinted>1999-08-19T10:02:00Z</cp:lastPrinted>
  <dcterms:modified xsi:type="dcterms:W3CDTF">2002-03-18T07:52:25Z</dcterms:modified>
  <cp:revision>76</cp:revision>
  <dc:subject/>
  <dc:title>Kein Folientitel</dc:title>
</cp:coreProperties>
</file>