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C3B-6C69-4C19-9CC8-F8E41127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440-1AEA-4E7B-B981-98891901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CCE-F534-4937-96A0-3C24D26D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AF5A-DDFB-4A20-BEA3-08644B95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5E4-6866-49B2-B2DC-9E961C2C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5FF-4A3B-4232-A6DE-62FA0AF8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BA2-E31B-41ED-A993-2671410D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3B6-4ADF-48E3-B3D0-C5DB19E2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BE5E-F4FA-4D8C-9162-FED2C5CF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ED7-0638-405A-8ED3-C2103806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2C6-C999-4D29-A3A2-8A8F7EA2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52F0-BF96-49D6-84FD-E1EB0859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3E37-1AC1-4F78-90F3-808E4F70D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6160" y="2514600"/>
            <a:ext cx="450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Wie funktioniert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a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kara_gross" descr=""/>
          <p:cNvPicPr/>
          <p:nvPr/>
        </p:nvPicPr>
        <p:blipFill>
          <a:blip r:embed="rId1"/>
          <a:stretch/>
        </p:blipFill>
        <p:spPr>
          <a:xfrm>
            <a:off x="1930320" y="4549680"/>
            <a:ext cx="29973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19880" y="2514600"/>
            <a:ext cx="485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ufgaben für K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kara_gross" descr=""/>
          <p:cNvPicPr/>
          <p:nvPr/>
        </p:nvPicPr>
        <p:blipFill>
          <a:blip r:embed="rId1"/>
          <a:stretch/>
        </p:blipFill>
        <p:spPr>
          <a:xfrm>
            <a:off x="1930320" y="4549680"/>
            <a:ext cx="29973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53040" y="2514600"/>
            <a:ext cx="377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Lösungen d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ufgab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kara_gross" descr=""/>
          <p:cNvPicPr/>
          <p:nvPr/>
        </p:nvPicPr>
        <p:blipFill>
          <a:blip r:embed="rId1"/>
          <a:stretch/>
        </p:blipFill>
        <p:spPr>
          <a:xfrm>
            <a:off x="1930320" y="4549680"/>
            <a:ext cx="29973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0:28:12Z</dcterms:created>
  <dc:creator>Werner Hartmann</dc:creator>
  <dc:description/>
  <dc:language>en-US</dc:language>
  <cp:lastModifiedBy>MatthiasDreier</cp:lastModifiedBy>
  <dcterms:modified xsi:type="dcterms:W3CDTF">2006-04-25T19:22:43Z</dcterms:modified>
  <cp:revision>6</cp:revision>
  <dc:subject/>
  <dc:title>Wie funktioniert Kara</dc:title>
</cp:coreProperties>
</file>