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10058400" cy="6707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95904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220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95904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20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03440" y="977760"/>
            <a:ext cx="7772400" cy="56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95160" y="12024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ehem" descr=""/>
          <p:cNvPicPr/>
          <p:nvPr/>
        </p:nvPicPr>
        <p:blipFill>
          <a:blip r:embed="rId1"/>
          <a:stretch/>
        </p:blipFill>
        <p:spPr>
          <a:xfrm>
            <a:off x="0" y="1725480"/>
            <a:ext cx="3963960" cy="4113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5120" y="145800"/>
            <a:ext cx="880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96960" y="8172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Programmieren mit Visual Basic in Exc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11840" y="2347920"/>
            <a:ext cx="563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Zugriff auf Excel-Tab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ie wichtigsten Kontrollstrukt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Macro-Recorder und Hil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2152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320" y="6410160"/>
            <a:ext cx="90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f Bruder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uderer@computerscience.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Visual Basic in Exce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die Visual Basic Hilf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24779" t="23146" r="43763" b="55406"/>
          <a:stretch/>
        </p:blipFill>
        <p:spPr>
          <a:xfrm>
            <a:off x="182520" y="1990800"/>
            <a:ext cx="4810320" cy="2624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37215" t="26594" r="21747" b="34896"/>
          <a:stretch/>
        </p:blipFill>
        <p:spPr>
          <a:xfrm>
            <a:off x="3986280" y="2952720"/>
            <a:ext cx="5003640" cy="3755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3680" y="1389240"/>
            <a:ext cx="72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usführliche Erklärungen zu allen Objekten und Befeh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09520" y="3878280"/>
            <a:ext cx="3852720" cy="1249200"/>
            <a:chOff x="209520" y="3878280"/>
            <a:chExt cx="3852720" cy="1249200"/>
          </a:xfrm>
        </p:grpSpPr>
        <p:sp>
          <p:nvSpPr>
            <p:cNvPr id="176" name=""/>
            <p:cNvSpPr/>
            <p:nvPr/>
          </p:nvSpPr>
          <p:spPr>
            <a:xfrm>
              <a:off x="209520" y="3878280"/>
              <a:ext cx="3852720" cy="1249200"/>
            </a:xfrm>
            <a:prstGeom prst="rightArrow">
              <a:avLst>
                <a:gd name="adj1" fmla="val 50000"/>
                <a:gd name="adj2" fmla="val 77104"/>
              </a:avLst>
            </a:prstGeom>
            <a:solidFill>
              <a:srgbClr val="ffcc00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3880" y="4286160"/>
              <a:ext cx="33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>
                  <a:solidFill>
                    <a:srgbClr val="000000"/>
                  </a:solidFill>
                  <a:latin typeface="Arial"/>
                </a:rPr>
                <a:t>markieren und F1 drüc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Visual Basic in Exce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W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u?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2320" y="1389240"/>
            <a:ext cx="6618240" cy="825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Automatisieren von immer wiederkehr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oder mühsamen Arbeiten in Microsoft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44680" y="2516040"/>
          <a:ext cx="7967520" cy="25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2516040"/>
                    <a:ext cx="79675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099160" y="5205240"/>
            <a:ext cx="49996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6600"/>
                </a:solidFill>
                <a:latin typeface="Arial"/>
              </a:rPr>
              <a:t>von Hand ausfüll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ff6600"/>
                </a:solidFill>
                <a:latin typeface="Arial"/>
              </a:rPr>
              <a:t>Sehr mühsa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CH" sz="1800" spc="-1" strike="noStrike">
                <a:solidFill>
                  <a:srgbClr val="ff6600"/>
                </a:solidFill>
                <a:latin typeface="Arial"/>
              </a:rPr>
              <a:t>vor allem für Hunderte von Frauen und Män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33680" y="3832200"/>
            <a:ext cx="1066680" cy="14241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Visual Basic in Exce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600" y="1719360"/>
            <a:ext cx="319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 indent="-104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6600" y="2057400"/>
            <a:ext cx="8462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u beherrschst die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Grundstrukturen von Programmen in Visual Basi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u weisst, wie man aus Visual Basic Programmen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auf Zelleninhalte in Excel-Tabellen zugrei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u kannst unter Excel in Visual Basic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fache kleine Programme schreib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Visual Basic in Exce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Visual Basic als Sprache, Excel als Wel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6303" t="15674" r="14597" b="43848"/>
          <a:stretch/>
        </p:blipFill>
        <p:spPr>
          <a:xfrm>
            <a:off x="3166920" y="3375000"/>
            <a:ext cx="5757840" cy="3154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9663" b="31635"/>
          <a:stretch/>
        </p:blipFill>
        <p:spPr>
          <a:xfrm>
            <a:off x="146160" y="1260360"/>
            <a:ext cx="4473360" cy="2540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490720" y="1601640"/>
            <a:ext cx="21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160" y="4740120"/>
            <a:ext cx="197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756400">
            <a:off x="2502000" y="4676760"/>
            <a:ext cx="1822320" cy="1100160"/>
          </a:xfrm>
          <a:prstGeom prst="rightArrow">
            <a:avLst>
              <a:gd name="adj1" fmla="val 50000"/>
              <a:gd name="adj2" fmla="val 41410"/>
            </a:avLst>
          </a:prstGeom>
          <a:solidFill>
            <a:srgbClr val="ff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726800">
            <a:off x="385560" y="3238560"/>
            <a:ext cx="1706400" cy="1100160"/>
          </a:xfrm>
          <a:prstGeom prst="rightArrow">
            <a:avLst>
              <a:gd name="adj1" fmla="val 50000"/>
              <a:gd name="adj2" fmla="val 38776"/>
            </a:avLst>
          </a:prstGeom>
          <a:solidFill>
            <a:srgbClr val="ff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876200">
            <a:off x="6752160" y="2696040"/>
            <a:ext cx="1700280" cy="1308240"/>
          </a:xfrm>
          <a:prstGeom prst="rightArrow">
            <a:avLst>
              <a:gd name="adj1" fmla="val 50000"/>
              <a:gd name="adj2" fmla="val 32492"/>
            </a:avLst>
          </a:prstGeom>
          <a:solidFill>
            <a:srgbClr val="ff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9919200">
            <a:off x="4463280" y="1774800"/>
            <a:ext cx="846360" cy="930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Visual Basic in Exce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Zugriff auf Excel-Tabellen mit Visual Basic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760" y="133992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ksheets("M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änn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).Cells(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48791" b="67647"/>
          <a:stretch/>
        </p:blipFill>
        <p:spPr>
          <a:xfrm>
            <a:off x="1274760" y="2540160"/>
            <a:ext cx="7686720" cy="38844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3068640" y="1568160"/>
            <a:ext cx="3817800" cy="2586240"/>
            <a:chOff x="3068640" y="1568160"/>
            <a:chExt cx="3817800" cy="2586240"/>
          </a:xfrm>
        </p:grpSpPr>
        <p:cxnSp>
          <p:nvCxnSpPr>
            <p:cNvPr id="108" name=""/>
            <p:cNvCxnSpPr>
              <a:stCxn id="105" idx="3"/>
              <a:endCxn id="109" idx="0"/>
            </p:cNvCxnSpPr>
            <p:nvPr/>
          </p:nvCxnSpPr>
          <p:spPr>
            <a:xfrm flipH="1">
              <a:off x="3398040" y="1568160"/>
              <a:ext cx="2715480" cy="2359800"/>
            </a:xfrm>
            <a:prstGeom prst="curvedConnector5">
              <a:avLst>
                <a:gd name="adj1" fmla="val -28480"/>
                <a:gd name="adj2" fmla="val 27616"/>
                <a:gd name="adj3" fmla="val -2848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3068640" y="3946680"/>
              <a:ext cx="658800" cy="20772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749480" y="1657080"/>
            <a:ext cx="702000" cy="575280"/>
            <a:chOff x="4749480" y="1657080"/>
            <a:chExt cx="702000" cy="575280"/>
          </a:xfrm>
        </p:grpSpPr>
        <p:sp>
          <p:nvSpPr>
            <p:cNvPr id="111" name=""/>
            <p:cNvSpPr/>
            <p:nvPr/>
          </p:nvSpPr>
          <p:spPr>
            <a:xfrm flipV="1">
              <a:off x="5141880" y="1657080"/>
              <a:ext cx="252360" cy="2509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49480" y="186408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cc99"/>
                  </a:solidFill>
                  <a:latin typeface="Arial"/>
                </a:rPr>
                <a:t>Ze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645160" y="1665360"/>
            <a:ext cx="866520" cy="587520"/>
            <a:chOff x="5645160" y="1665360"/>
            <a:chExt cx="866520" cy="587520"/>
          </a:xfrm>
        </p:grpSpPr>
        <p:sp>
          <p:nvSpPr>
            <p:cNvPr id="114" name=""/>
            <p:cNvSpPr/>
            <p:nvPr/>
          </p:nvSpPr>
          <p:spPr>
            <a:xfrm flipH="1" flipV="1">
              <a:off x="5765760" y="1665360"/>
              <a:ext cx="277920" cy="27792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45160" y="18846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cc99"/>
                  </a:solidFill>
                  <a:latin typeface="Arial"/>
                </a:rPr>
                <a:t>Spal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55760" y="1669680"/>
            <a:ext cx="2288520" cy="551160"/>
            <a:chOff x="1355760" y="1669680"/>
            <a:chExt cx="2288520" cy="551160"/>
          </a:xfrm>
        </p:grpSpPr>
        <p:sp>
          <p:nvSpPr>
            <p:cNvPr id="117" name=""/>
            <p:cNvSpPr/>
            <p:nvPr/>
          </p:nvSpPr>
          <p:spPr>
            <a:xfrm>
              <a:off x="1355760" y="1852560"/>
              <a:ext cx="228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cc99"/>
                  </a:solidFill>
                  <a:latin typeface="Arial"/>
                </a:rPr>
                <a:t>Tabellenblatt-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417400" y="1669680"/>
              <a:ext cx="246240" cy="24300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48791" b="67647"/>
          <a:stretch/>
        </p:blipFill>
        <p:spPr>
          <a:xfrm>
            <a:off x="463680" y="2087640"/>
            <a:ext cx="7616520" cy="3849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81240" y="5832360"/>
            <a:ext cx="439560" cy="474840"/>
          </a:xfrm>
          <a:prstGeom prst="ellipse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05440" y="1262160"/>
            <a:ext cx="1192320" cy="485640"/>
          </a:xfrm>
          <a:prstGeom prst="ellipse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Visual Basic in Exce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Schreiben und Lesen von Werten in Tabellenzelle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25568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ksheets("M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änn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).Cells(2,3).Value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87720" y="580860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Worksheets("M</a:t>
            </a:r>
            <a:r>
              <a:rPr b="1" lang="de-CH" sz="2400" spc="-1" strike="noStrike">
                <a:solidFill>
                  <a:srgbClr val="000000"/>
                </a:solidFill>
                <a:latin typeface="Courier New"/>
              </a:rPr>
              <a:t>änn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).Cells(2,3).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rot="5400000">
            <a:off x="760680" y="4242600"/>
            <a:ext cx="2326320" cy="1264320"/>
          </a:xfrm>
          <a:prstGeom prst="curvedConnector5">
            <a:avLst>
              <a:gd name="adj1" fmla="val 44637"/>
              <a:gd name="adj2" fmla="val 59043"/>
              <a:gd name="adj3" fmla="val 44637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5875200" y="17049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cc99"/>
                </a:solidFill>
                <a:latin typeface="Arial"/>
              </a:rPr>
              <a:t>Zellenw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225520" y="1483920"/>
            <a:ext cx="5949360" cy="2242080"/>
            <a:chOff x="2225520" y="1483920"/>
            <a:chExt cx="5949360" cy="2242080"/>
          </a:xfrm>
        </p:grpSpPr>
        <p:cxnSp>
          <p:nvCxnSpPr>
            <p:cNvPr id="130" name=""/>
            <p:cNvCxnSpPr>
              <a:stCxn id="124" idx="3"/>
              <a:endCxn id="127" idx="0"/>
            </p:cNvCxnSpPr>
            <p:nvPr/>
          </p:nvCxnSpPr>
          <p:spPr>
            <a:xfrm flipH="1">
              <a:off x="2554920" y="1483920"/>
              <a:ext cx="5391720" cy="1981800"/>
            </a:xfrm>
            <a:prstGeom prst="curvedConnector5">
              <a:avLst>
                <a:gd name="adj1" fmla="val -4240"/>
                <a:gd name="adj2" fmla="val 28125"/>
                <a:gd name="adj3" fmla="val -424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2225520" y="3449520"/>
              <a:ext cx="658800" cy="276480"/>
              <a:chOff x="2225520" y="3449520"/>
              <a:chExt cx="658800" cy="276480"/>
            </a:xfrm>
          </p:grpSpPr>
          <p:sp>
            <p:nvSpPr>
              <p:cNvPr id="127" name=""/>
              <p:cNvSpPr/>
              <p:nvPr/>
            </p:nvSpPr>
            <p:spPr>
              <a:xfrm>
                <a:off x="2225520" y="3484440"/>
                <a:ext cx="658800" cy="208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05160" y="34495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993960" y="628164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cc99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Visual Basic in Exce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wichtige Kontrollstrukture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: If-Verzweigung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6160" y="5089680"/>
            <a:ext cx="886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x = 0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ksheets("Frauen").Cells(1,10).Value = "Goodbye!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ksheets("Frauen").Cells(1,10).Value = "Hallo!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78640" y="1398600"/>
            <a:ext cx="3289680" cy="2654280"/>
            <a:chOff x="278640" y="1398600"/>
            <a:chExt cx="3289680" cy="2654280"/>
          </a:xfrm>
        </p:grpSpPr>
        <p:sp>
          <p:nvSpPr>
            <p:cNvPr id="138" name=""/>
            <p:cNvSpPr/>
            <p:nvPr/>
          </p:nvSpPr>
          <p:spPr>
            <a:xfrm>
              <a:off x="278640" y="1398600"/>
              <a:ext cx="32896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f Bedingung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nd 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39960" y="1822320"/>
              <a:ext cx="1458720" cy="6829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41400" y="2924280"/>
              <a:ext cx="1459080" cy="682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737240" y="2409840"/>
            <a:ext cx="3857400" cy="2297160"/>
            <a:chOff x="4737240" y="2409840"/>
            <a:chExt cx="3857400" cy="2297160"/>
          </a:xfrm>
        </p:grpSpPr>
        <p:sp>
          <p:nvSpPr>
            <p:cNvPr id="142" name=""/>
            <p:cNvSpPr/>
            <p:nvPr/>
          </p:nvSpPr>
          <p:spPr>
            <a:xfrm>
              <a:off x="5690880" y="240984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dingu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81760" y="35845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09160" y="36068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472000" y="2876400"/>
              <a:ext cx="2327040" cy="693360"/>
              <a:chOff x="5472000" y="2876400"/>
              <a:chExt cx="2327040" cy="69336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5472000" y="2876400"/>
                <a:ext cx="775440" cy="682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23960" y="2887200"/>
                <a:ext cx="775080" cy="682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737240" y="4022640"/>
              <a:ext cx="1458720" cy="6825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35920" y="4024440"/>
              <a:ext cx="1458720" cy="682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Visual Basic in Exce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wichtige Kontrollstrukture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: While-Schleif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4200" y="5195880"/>
            <a:ext cx="749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a &gt; 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 a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ksheets("Frauen").Cells(a,10).Value =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72600" y="1450800"/>
            <a:ext cx="3308760" cy="1922760"/>
            <a:chOff x="372600" y="1450800"/>
            <a:chExt cx="3308760" cy="1922760"/>
          </a:xfrm>
        </p:grpSpPr>
        <p:sp>
          <p:nvSpPr>
            <p:cNvPr id="154" name=""/>
            <p:cNvSpPr/>
            <p:nvPr/>
          </p:nvSpPr>
          <p:spPr>
            <a:xfrm>
              <a:off x="372600" y="1450800"/>
              <a:ext cx="2923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While Beding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W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7000" y="1949400"/>
              <a:ext cx="2754360" cy="9144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829400" y="2597040"/>
            <a:ext cx="3689280" cy="2464560"/>
            <a:chOff x="4829400" y="2597040"/>
            <a:chExt cx="3689280" cy="2464560"/>
          </a:xfrm>
        </p:grpSpPr>
        <p:sp>
          <p:nvSpPr>
            <p:cNvPr id="157" name=""/>
            <p:cNvSpPr/>
            <p:nvPr/>
          </p:nvSpPr>
          <p:spPr>
            <a:xfrm>
              <a:off x="5789160" y="259704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dingu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35720" y="3219480"/>
              <a:ext cx="2082960" cy="9144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9193800">
              <a:off x="5280840" y="2714400"/>
              <a:ext cx="995400" cy="2243160"/>
            </a:xfrm>
            <a:custGeom>
              <a:avLst/>
              <a:gdLst>
                <a:gd name="textAreaLeft" fmla="*/ 133200 w 995400"/>
                <a:gd name="textAreaRight" fmla="*/ 862200 w 995400"/>
                <a:gd name="textAreaTop" fmla="*/ 392400 h 2243160"/>
                <a:gd name="textAreaBottom" fmla="*/ 1626480 h 22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768" t="5829" r="65118" b="64373"/>
          <a:stretch/>
        </p:blipFill>
        <p:spPr>
          <a:xfrm>
            <a:off x="68400" y="3797280"/>
            <a:ext cx="4159080" cy="2906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Visual Basic in Excel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der Macro-Recorder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1329" t="6648" r="80886" b="90838"/>
          <a:stretch/>
        </p:blipFill>
        <p:spPr>
          <a:xfrm>
            <a:off x="1155600" y="1805040"/>
            <a:ext cx="4503960" cy="509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88600" y="1271520"/>
            <a:ext cx="30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Toolbar "Visual Basic"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126880" y="2209680"/>
            <a:ext cx="5433840" cy="1353240"/>
            <a:chOff x="2126880" y="2209680"/>
            <a:chExt cx="5433840" cy="1353240"/>
          </a:xfrm>
        </p:grpSpPr>
        <p:sp>
          <p:nvSpPr>
            <p:cNvPr id="166" name=""/>
            <p:cNvSpPr/>
            <p:nvPr/>
          </p:nvSpPr>
          <p:spPr>
            <a:xfrm flipH="1" flipV="1">
              <a:off x="2126880" y="2209680"/>
              <a:ext cx="477720" cy="47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97760" y="2554200"/>
              <a:ext cx="4962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>
                  <a:solidFill>
                    <a:srgbClr val="000000"/>
                  </a:solidFill>
                  <a:latin typeface="Arial"/>
                </a:rPr>
                <a:t>Macro-Record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Arial"/>
                </a:rPr>
                <a:t>Alles aufnehmen, was der Benutzer mac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Arial"/>
                </a:rPr>
                <a:t>und als Programm speicher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rcRect l="25340" t="25881" r="41682" b="49496"/>
          <a:stretch/>
        </p:blipFill>
        <p:spPr>
          <a:xfrm>
            <a:off x="4533840" y="3870360"/>
            <a:ext cx="4565880" cy="2727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48120" y="4729320"/>
            <a:ext cx="868320" cy="772920"/>
          </a:xfrm>
          <a:prstGeom prst="rightArrow">
            <a:avLst>
              <a:gd name="adj1" fmla="val 56880"/>
              <a:gd name="adj2" fmla="val 56275"/>
            </a:avLst>
          </a:prstGeom>
          <a:solidFill>
            <a:srgbClr val="ff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7:04:02Z</dcterms:created>
  <dc:creator>bruderol</dc:creator>
  <dc:description/>
  <dc:language>en-US</dc:language>
  <cp:lastModifiedBy>bruderol</cp:lastModifiedBy>
  <cp:lastPrinted>2002-11-17T17:56:24Z</cp:lastPrinted>
  <dcterms:modified xsi:type="dcterms:W3CDTF">2003-09-29T16:05:14Z</dcterms:modified>
  <cp:revision>26</cp:revision>
  <dc:subject/>
  <dc:title>Heiratsproblem</dc:title>
</cp:coreProperties>
</file>