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10058400" cy="6707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220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83952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95904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220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95904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83952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95904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03440" y="977760"/>
            <a:ext cx="7772400" cy="56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95160" y="1202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2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2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4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5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0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ehem" descr=""/>
          <p:cNvPicPr/>
          <p:nvPr/>
        </p:nvPicPr>
        <p:blipFill>
          <a:blip r:embed="rId1"/>
          <a:stretch/>
        </p:blipFill>
        <p:spPr>
          <a:xfrm>
            <a:off x="0" y="1725480"/>
            <a:ext cx="3963960" cy="411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5120" y="145800"/>
            <a:ext cx="880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96960" y="8172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Eine Einführung in Algorithmik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2360" y="2203560"/>
            <a:ext cx="463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Zuordnungsprob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as Heirats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tabile Hei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Finden einer Mann- bzw.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Frau-optimalen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2152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320" y="6410160"/>
            <a:ext cx="90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f Bruder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uderer@computerscience.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Alle Beteiligten haben ihre Vorliebe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7520" y="149220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Jede und jeder hat eine Präferenzlis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49160" y="4719600"/>
          <a:ext cx="154152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4719600"/>
                    <a:ext cx="15415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832200" y="1979640"/>
            <a:ext cx="5126040" cy="3854520"/>
          </a:xfrm>
          <a:prstGeom prst="cloudCallout">
            <a:avLst>
              <a:gd name="adj1" fmla="val -80814"/>
              <a:gd name="adj2" fmla="val 2215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9640" y="2592360"/>
            <a:ext cx="396540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m Liebsten hätte ich ja den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Brad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Johnn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ist auch nicht schlec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die nicht wollen, dann nehme ich halt den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Hansruedi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91280" y="4121280"/>
            <a:ext cx="1755000" cy="1031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B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John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Hansru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520320" y="5151600"/>
            <a:ext cx="2180160" cy="1113480"/>
            <a:chOff x="6520320" y="5151600"/>
            <a:chExt cx="2180160" cy="1113480"/>
          </a:xfrm>
        </p:grpSpPr>
        <p:sp>
          <p:nvSpPr>
            <p:cNvPr id="198" name=""/>
            <p:cNvSpPr/>
            <p:nvPr/>
          </p:nvSpPr>
          <p:spPr>
            <a:xfrm>
              <a:off x="6520320" y="5805360"/>
              <a:ext cx="218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33ccff"/>
                  </a:solidFill>
                  <a:latin typeface="Arial"/>
                </a:rPr>
                <a:t>Präferenzli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97600" y="5151600"/>
              <a:ext cx="544680" cy="70452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7464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Heirat darf nicht "instabil" sein …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720" y="5969160"/>
            <a:ext cx="8550360" cy="7038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nstabil     =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in Mann und eine Frau haben sich gegenseitig lieber,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ls ihren Ehepart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60680" y="1976400"/>
            <a:ext cx="4109760" cy="479520"/>
            <a:chOff x="2560680" y="1976400"/>
            <a:chExt cx="4109760" cy="479520"/>
          </a:xfrm>
        </p:grpSpPr>
        <p:cxnSp>
          <p:nvCxnSpPr>
            <p:cNvPr id="204" name=""/>
            <p:cNvCxnSpPr/>
            <p:nvPr/>
          </p:nvCxnSpPr>
          <p:spPr>
            <a:xfrm flipV="1">
              <a:off x="2560680" y="2158200"/>
              <a:ext cx="4110120" cy="3960"/>
            </a:xfrm>
            <a:prstGeom prst="curvedConnector5">
              <a:avLst>
                <a:gd name="adj1" fmla="val 49982"/>
                <a:gd name="adj2" fmla="val 50000"/>
                <a:gd name="adj3" fmla="val 49982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205" name="heart1" descr=""/>
            <p:cNvPicPr/>
            <p:nvPr/>
          </p:nvPicPr>
          <p:blipFill>
            <a:blip r:embed="rId1"/>
            <a:stretch/>
          </p:blipFill>
          <p:spPr>
            <a:xfrm>
              <a:off x="4211640" y="1976400"/>
              <a:ext cx="592200" cy="47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2540160" y="4836960"/>
            <a:ext cx="4109760" cy="368280"/>
            <a:chOff x="2540160" y="4836960"/>
            <a:chExt cx="4109760" cy="368280"/>
          </a:xfrm>
        </p:grpSpPr>
        <p:cxnSp>
          <p:nvCxnSpPr>
            <p:cNvPr id="207" name=""/>
            <p:cNvCxnSpPr/>
            <p:nvPr/>
          </p:nvCxnSpPr>
          <p:spPr>
            <a:xfrm flipV="1">
              <a:off x="2540160" y="5019480"/>
              <a:ext cx="4110120" cy="3600"/>
            </a:xfrm>
            <a:prstGeom prst="curvedConnector5">
              <a:avLst>
                <a:gd name="adj1" fmla="val 49982"/>
                <a:gd name="adj2" fmla="val 44444"/>
                <a:gd name="adj3" fmla="val 49982"/>
              </a:avLst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</p:cxnSp>
        <p:pic>
          <p:nvPicPr>
            <p:cNvPr id="208" name="heart1" descr=""/>
            <p:cNvPicPr/>
            <p:nvPr/>
          </p:nvPicPr>
          <p:blipFill>
            <a:blip r:embed="rId2"/>
            <a:stretch/>
          </p:blipFill>
          <p:spPr>
            <a:xfrm>
              <a:off x="4268880" y="4836960"/>
              <a:ext cx="45360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2527200" y="2971800"/>
            <a:ext cx="4975560" cy="983160"/>
            <a:chOff x="2527200" y="2971800"/>
            <a:chExt cx="4975560" cy="983160"/>
          </a:xfrm>
        </p:grpSpPr>
        <p:cxnSp>
          <p:nvCxnSpPr>
            <p:cNvPr id="210" name=""/>
            <p:cNvCxnSpPr/>
            <p:nvPr/>
          </p:nvCxnSpPr>
          <p:spPr>
            <a:xfrm>
              <a:off x="2527200" y="2971800"/>
              <a:ext cx="4975920" cy="9835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211" name="heart1" descr=""/>
            <p:cNvPicPr/>
            <p:nvPr/>
          </p:nvPicPr>
          <p:blipFill>
            <a:blip r:embed="rId3"/>
            <a:stretch/>
          </p:blipFill>
          <p:spPr>
            <a:xfrm>
              <a:off x="5289480" y="2980080"/>
              <a:ext cx="992160" cy="72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1662840" y="3241080"/>
            <a:ext cx="4902480" cy="1033920"/>
            <a:chOff x="1662840" y="3241080"/>
            <a:chExt cx="4902480" cy="1033920"/>
          </a:xfrm>
        </p:grpSpPr>
        <p:cxnSp>
          <p:nvCxnSpPr>
            <p:cNvPr id="213" name=""/>
            <p:cNvCxnSpPr/>
            <p:nvPr/>
          </p:nvCxnSpPr>
          <p:spPr>
            <a:xfrm rot="10800000">
              <a:off x="1662840" y="3241080"/>
              <a:ext cx="4902840" cy="92124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214" name="heart1" descr=""/>
            <p:cNvPicPr/>
            <p:nvPr/>
          </p:nvPicPr>
          <p:blipFill>
            <a:blip r:embed="rId4"/>
            <a:stretch/>
          </p:blipFill>
          <p:spPr>
            <a:xfrm>
              <a:off x="2916000" y="3586320"/>
              <a:ext cx="851040" cy="68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835200" y="1363680"/>
            <a:ext cx="7489800" cy="1920960"/>
            <a:chOff x="835200" y="1363680"/>
            <a:chExt cx="7489800" cy="1920960"/>
          </a:xfrm>
        </p:grpSpPr>
        <p:graphicFrame>
          <p:nvGraphicFramePr>
            <p:cNvPr id="216" name=""/>
            <p:cNvGraphicFramePr/>
            <p:nvPr/>
          </p:nvGraphicFramePr>
          <p:xfrm>
            <a:off x="835200" y="1363680"/>
            <a:ext cx="1657440" cy="1878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5200" y="1363680"/>
                      <a:ext cx="1657440" cy="187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6704280" y="1392120"/>
            <a:ext cx="1620720" cy="1892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04280" y="1392120"/>
                      <a:ext cx="1620720" cy="18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2573640" y="1631880"/>
              <a:ext cx="408636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1" name=""/>
            <p:cNvGraphicFramePr/>
            <p:nvPr/>
          </p:nvGraphicFramePr>
          <p:xfrm>
            <a:off x="4073760" y="1363680"/>
            <a:ext cx="925560" cy="512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73760" y="1363680"/>
                      <a:ext cx="92556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3" name=""/>
          <p:cNvGrpSpPr/>
          <p:nvPr/>
        </p:nvGrpSpPr>
        <p:grpSpPr>
          <a:xfrm>
            <a:off x="853920" y="3998880"/>
            <a:ext cx="7458120" cy="1814400"/>
            <a:chOff x="853920" y="3998880"/>
            <a:chExt cx="7458120" cy="1814400"/>
          </a:xfrm>
        </p:grpSpPr>
        <p:graphicFrame>
          <p:nvGraphicFramePr>
            <p:cNvPr id="224" name=""/>
            <p:cNvGraphicFramePr/>
            <p:nvPr/>
          </p:nvGraphicFramePr>
          <p:xfrm>
            <a:off x="853920" y="3998880"/>
            <a:ext cx="1658880" cy="1795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3920" y="3998880"/>
                      <a:ext cx="1658880" cy="17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"/>
            <p:cNvGraphicFramePr/>
            <p:nvPr/>
          </p:nvGraphicFramePr>
          <p:xfrm>
            <a:off x="6691320" y="4014720"/>
            <a:ext cx="1620720" cy="179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91320" y="4014720"/>
                      <a:ext cx="1620720" cy="17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2563920" y="5597640"/>
              <a:ext cx="408600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"/>
            <p:cNvGraphicFramePr/>
            <p:nvPr/>
          </p:nvGraphicFramePr>
          <p:xfrm>
            <a:off x="4116240" y="5300640"/>
            <a:ext cx="925560" cy="512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16240" y="5300640"/>
                      <a:ext cx="92556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7464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sonst wird geschieden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5200" y="1363680"/>
            <a:ext cx="7489800" cy="4449600"/>
            <a:chOff x="835200" y="1363680"/>
            <a:chExt cx="7489800" cy="4449600"/>
          </a:xfrm>
        </p:grpSpPr>
        <p:grpSp>
          <p:nvGrpSpPr>
            <p:cNvPr id="234" name=""/>
            <p:cNvGrpSpPr/>
            <p:nvPr/>
          </p:nvGrpSpPr>
          <p:grpSpPr>
            <a:xfrm>
              <a:off x="2561040" y="1976400"/>
              <a:ext cx="4109760" cy="479520"/>
              <a:chOff x="2561040" y="1976400"/>
              <a:chExt cx="4109760" cy="479520"/>
            </a:xfrm>
          </p:grpSpPr>
          <p:cxnSp>
            <p:nvCxnSpPr>
              <p:cNvPr id="235" name=""/>
              <p:cNvCxnSpPr/>
              <p:nvPr/>
            </p:nvCxnSpPr>
            <p:spPr>
              <a:xfrm flipV="1">
                <a:off x="2561040" y="2158200"/>
                <a:ext cx="4110120" cy="3960"/>
              </a:xfrm>
              <a:prstGeom prst="curvedConnector5">
                <a:avLst>
                  <a:gd name="adj1" fmla="val 49982"/>
                  <a:gd name="adj2" fmla="val 50000"/>
                  <a:gd name="adj3" fmla="val 49982"/>
                </a:avLst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  <p:pic>
            <p:nvPicPr>
              <p:cNvPr id="236" name="heart1" descr=""/>
              <p:cNvPicPr/>
              <p:nvPr/>
            </p:nvPicPr>
            <p:blipFill>
              <a:blip r:embed="rId1"/>
              <a:stretch/>
            </p:blipFill>
            <p:spPr>
              <a:xfrm>
                <a:off x="4212000" y="1976400"/>
                <a:ext cx="592200" cy="479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"/>
            <p:cNvGrpSpPr/>
            <p:nvPr/>
          </p:nvGrpSpPr>
          <p:grpSpPr>
            <a:xfrm>
              <a:off x="2539800" y="4836960"/>
              <a:ext cx="4110480" cy="368280"/>
              <a:chOff x="2539800" y="4836960"/>
              <a:chExt cx="4110480" cy="368280"/>
            </a:xfrm>
          </p:grpSpPr>
          <p:cxnSp>
            <p:nvCxnSpPr>
              <p:cNvPr id="238" name=""/>
              <p:cNvCxnSpPr/>
              <p:nvPr/>
            </p:nvCxnSpPr>
            <p:spPr>
              <a:xfrm flipV="1">
                <a:off x="2539800" y="5019480"/>
                <a:ext cx="4110840" cy="3600"/>
              </a:xfrm>
              <a:prstGeom prst="curvedConnector5">
                <a:avLst>
                  <a:gd name="adj1" fmla="val 49973"/>
                  <a:gd name="adj2" fmla="val 44444"/>
                  <a:gd name="adj3" fmla="val 49973"/>
                </a:avLst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</p:cxnSp>
          <p:pic>
            <p:nvPicPr>
              <p:cNvPr id="239" name="heart1" descr=""/>
              <p:cNvPicPr/>
              <p:nvPr/>
            </p:nvPicPr>
            <p:blipFill>
              <a:blip r:embed="rId2"/>
              <a:stretch/>
            </p:blipFill>
            <p:spPr>
              <a:xfrm>
                <a:off x="4269240" y="4836960"/>
                <a:ext cx="45396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" name=""/>
            <p:cNvGrpSpPr/>
            <p:nvPr/>
          </p:nvGrpSpPr>
          <p:grpSpPr>
            <a:xfrm>
              <a:off x="2527560" y="2971800"/>
              <a:ext cx="4975560" cy="983160"/>
              <a:chOff x="2527560" y="2971800"/>
              <a:chExt cx="4975560" cy="983160"/>
            </a:xfrm>
          </p:grpSpPr>
          <p:cxnSp>
            <p:nvCxnSpPr>
              <p:cNvPr id="241" name=""/>
              <p:cNvCxnSpPr/>
              <p:nvPr/>
            </p:nvCxnSpPr>
            <p:spPr>
              <a:xfrm>
                <a:off x="2527560" y="2971800"/>
                <a:ext cx="4975920" cy="983520"/>
              </a:xfrm>
              <a:prstGeom prst="curvedConnector2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  <p:pic>
            <p:nvPicPr>
              <p:cNvPr id="242" name="heart1" descr=""/>
              <p:cNvPicPr/>
              <p:nvPr/>
            </p:nvPicPr>
            <p:blipFill>
              <a:blip r:embed="rId3"/>
              <a:stretch/>
            </p:blipFill>
            <p:spPr>
              <a:xfrm>
                <a:off x="5289840" y="2980080"/>
                <a:ext cx="992160" cy="726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1663200" y="3241080"/>
              <a:ext cx="4902480" cy="1033920"/>
              <a:chOff x="1663200" y="3241080"/>
              <a:chExt cx="4902480" cy="1033920"/>
            </a:xfrm>
          </p:grpSpPr>
          <p:cxnSp>
            <p:nvCxnSpPr>
              <p:cNvPr id="244" name=""/>
              <p:cNvCxnSpPr/>
              <p:nvPr/>
            </p:nvCxnSpPr>
            <p:spPr>
              <a:xfrm rot="10800000">
                <a:off x="1663200" y="3241080"/>
                <a:ext cx="4902840" cy="921240"/>
              </a:xfrm>
              <a:prstGeom prst="curvedConnector2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  <p:pic>
            <p:nvPicPr>
              <p:cNvPr id="245" name="heart1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6360" y="3586320"/>
                <a:ext cx="851040" cy="68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" name=""/>
            <p:cNvGrpSpPr/>
            <p:nvPr/>
          </p:nvGrpSpPr>
          <p:grpSpPr>
            <a:xfrm>
              <a:off x="835200" y="1363680"/>
              <a:ext cx="7489800" cy="1920960"/>
              <a:chOff x="835200" y="1363680"/>
              <a:chExt cx="7489800" cy="1920960"/>
            </a:xfrm>
          </p:grpSpPr>
          <p:graphicFrame>
            <p:nvGraphicFramePr>
              <p:cNvPr id="247" name=""/>
              <p:cNvGraphicFramePr/>
              <p:nvPr/>
            </p:nvGraphicFramePr>
            <p:xfrm>
              <a:off x="835200" y="1363680"/>
              <a:ext cx="1657440" cy="1878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35200" y="1363680"/>
                        <a:ext cx="1657440" cy="187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"/>
              <p:cNvGraphicFramePr/>
              <p:nvPr/>
            </p:nvGraphicFramePr>
            <p:xfrm>
              <a:off x="6704280" y="1392120"/>
              <a:ext cx="1620720" cy="1892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704280" y="1392120"/>
                        <a:ext cx="1620720" cy="1892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1" name=""/>
              <p:cNvSpPr/>
              <p:nvPr/>
            </p:nvSpPr>
            <p:spPr>
              <a:xfrm>
                <a:off x="2573640" y="1631880"/>
                <a:ext cx="4086360" cy="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52" name=""/>
              <p:cNvGraphicFramePr/>
              <p:nvPr/>
            </p:nvGraphicFramePr>
            <p:xfrm>
              <a:off x="4073760" y="1363680"/>
              <a:ext cx="925560" cy="5126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073760" y="1363680"/>
                        <a:ext cx="925560" cy="512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54" name=""/>
            <p:cNvGrpSpPr/>
            <p:nvPr/>
          </p:nvGrpSpPr>
          <p:grpSpPr>
            <a:xfrm>
              <a:off x="854280" y="3998880"/>
              <a:ext cx="7458120" cy="1814400"/>
              <a:chOff x="854280" y="3998880"/>
              <a:chExt cx="7458120" cy="1814400"/>
            </a:xfrm>
          </p:grpSpPr>
          <p:graphicFrame>
            <p:nvGraphicFramePr>
              <p:cNvPr id="255" name=""/>
              <p:cNvGraphicFramePr/>
              <p:nvPr/>
            </p:nvGraphicFramePr>
            <p:xfrm>
              <a:off x="854280" y="3998880"/>
              <a:ext cx="1658880" cy="1795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6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54280" y="3998880"/>
                        <a:ext cx="1658880" cy="179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7" name=""/>
              <p:cNvGraphicFramePr/>
              <p:nvPr/>
            </p:nvGraphicFramePr>
            <p:xfrm>
              <a:off x="6691680" y="4014720"/>
              <a:ext cx="1620720" cy="1798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691680" y="4014720"/>
                        <a:ext cx="1620720" cy="179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9" name=""/>
              <p:cNvSpPr/>
              <p:nvPr/>
            </p:nvSpPr>
            <p:spPr>
              <a:xfrm>
                <a:off x="2564280" y="5597640"/>
                <a:ext cx="4086000" cy="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0" name=""/>
              <p:cNvGraphicFramePr/>
              <p:nvPr/>
            </p:nvGraphicFramePr>
            <p:xfrm>
              <a:off x="4116600" y="5300640"/>
              <a:ext cx="925560" cy="512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6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4116600" y="5300640"/>
                        <a:ext cx="925560" cy="512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62" name=""/>
          <p:cNvGrpSpPr/>
          <p:nvPr/>
        </p:nvGrpSpPr>
        <p:grpSpPr>
          <a:xfrm>
            <a:off x="2517840" y="3219480"/>
            <a:ext cx="4167000" cy="799920"/>
            <a:chOff x="2517840" y="3219480"/>
            <a:chExt cx="4167000" cy="799920"/>
          </a:xfrm>
        </p:grpSpPr>
        <p:sp>
          <p:nvSpPr>
            <p:cNvPr id="263" name=""/>
            <p:cNvSpPr/>
            <p:nvPr/>
          </p:nvSpPr>
          <p:spPr>
            <a:xfrm>
              <a:off x="2517840" y="3219480"/>
              <a:ext cx="4167000" cy="79992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081320" y="3322440"/>
            <a:ext cx="910800" cy="513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81320" y="3322440"/>
                      <a:ext cx="910800" cy="5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6" name=""/>
          <p:cNvGrpSpPr/>
          <p:nvPr/>
        </p:nvGrpSpPr>
        <p:grpSpPr>
          <a:xfrm>
            <a:off x="2538360" y="1346040"/>
            <a:ext cx="4121280" cy="555840"/>
            <a:chOff x="2538360" y="1346040"/>
            <a:chExt cx="4121280" cy="555840"/>
          </a:xfrm>
        </p:grpSpPr>
        <p:sp>
          <p:nvSpPr>
            <p:cNvPr id="267" name=""/>
            <p:cNvSpPr/>
            <p:nvPr/>
          </p:nvSpPr>
          <p:spPr>
            <a:xfrm>
              <a:off x="2538360" y="1346040"/>
              <a:ext cx="412128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5640" y="1623960"/>
              <a:ext cx="4086360" cy="0"/>
            </a:xfrm>
            <a:prstGeom prst="line">
              <a:avLst/>
            </a:prstGeom>
            <a:ln w="38160">
              <a:solidFill>
                <a:srgbClr val="cc99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scheidungs_ringe" descr=""/>
            <p:cNvPicPr/>
            <p:nvPr/>
          </p:nvPicPr>
          <p:blipFill>
            <a:blip r:embed="rId19"/>
            <a:stretch/>
          </p:blipFill>
          <p:spPr>
            <a:xfrm>
              <a:off x="4102200" y="1355760"/>
              <a:ext cx="911160" cy="5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2550960" y="5280120"/>
            <a:ext cx="4121280" cy="590400"/>
            <a:chOff x="2550960" y="5280120"/>
            <a:chExt cx="4121280" cy="590400"/>
          </a:xfrm>
        </p:grpSpPr>
        <p:sp>
          <p:nvSpPr>
            <p:cNvPr id="271" name=""/>
            <p:cNvSpPr/>
            <p:nvPr/>
          </p:nvSpPr>
          <p:spPr>
            <a:xfrm>
              <a:off x="2550960" y="5315040"/>
              <a:ext cx="4121280" cy="55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68600" y="5581800"/>
              <a:ext cx="4086360" cy="0"/>
            </a:xfrm>
            <a:prstGeom prst="line">
              <a:avLst/>
            </a:prstGeom>
            <a:ln w="38160">
              <a:solidFill>
                <a:srgbClr val="cc99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scheidungs_ringe" descr=""/>
            <p:cNvPicPr/>
            <p:nvPr/>
          </p:nvPicPr>
          <p:blipFill>
            <a:blip r:embed="rId20"/>
            <a:stretch/>
          </p:blipFill>
          <p:spPr>
            <a:xfrm>
              <a:off x="4114800" y="5280120"/>
              <a:ext cx="911160" cy="52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7464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Gesucht: "stabile Heirat"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0440" y="1623960"/>
            <a:ext cx="7264080" cy="4597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ine Heirat heisst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stabil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sie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nicht instabil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3240" y="2692440"/>
            <a:ext cx="855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Gibt es immer eine stabile Hei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Ja, wenn jede &amp; jeder eine vollständige Präferenzliste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4800" y="578160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onst nicht unbedin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4124160"/>
          <a:ext cx="3984480" cy="112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124160"/>
                    <a:ext cx="39844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705200" y="4124160"/>
          <a:ext cx="4029120" cy="11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4124160"/>
                    <a:ext cx="402912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disco_people" descr=""/>
          <p:cNvPicPr/>
          <p:nvPr/>
        </p:nvPicPr>
        <p:blipFill>
          <a:blip r:embed="rId1"/>
          <a:stretch/>
        </p:blipFill>
        <p:spPr>
          <a:xfrm>
            <a:off x="5997600" y="1052640"/>
            <a:ext cx="2922480" cy="2087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die Single-Party: ein Rollenspi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8880" y="2049480"/>
            <a:ext cx="70722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Mann / Algorithmik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ehen im Ra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nn sich mehrere Frauen um ihn streiten,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 entscheidet er, wer bei ihm bleib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Fra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Programmier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en ihrem Lieblings-Mann einen Antr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d sie zur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ckgewiesen, so streicht sie ihn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ihrer Liste und sucht we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7464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Algorithmus zum Finden einer stabilen Heira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29160" y="1600200"/>
            <a:ext cx="921492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858960"/>
                <a:tab algn="l" pos="390384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olange es noch eine unverheiratete Frau gib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858960"/>
                <a:tab algn="l" pos="390384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nverheiratete Frau macht oberstem Mann auf ihrer Präferenzliste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inen Heirats-Antra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858960"/>
                <a:tab algn="l" pos="390384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 ist unverheiratet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ie heir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858960"/>
                <a:tab algn="l" pos="390384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 hat sie lieber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 scheidet sich von seiner Frau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nd sie heirat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858960"/>
                <a:tab algn="l" pos="390384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ie streicht ihn von ihrer Li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26360" y="628344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(Gale &amp; Shapley, 196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Fall 1: Der Angebetete ist noch unverheirate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999800" y="3117960"/>
            <a:ext cx="5178960" cy="1195200"/>
            <a:chOff x="1999800" y="3117960"/>
            <a:chExt cx="5178960" cy="1195200"/>
          </a:xfrm>
        </p:grpSpPr>
        <p:cxnSp>
          <p:nvCxnSpPr>
            <p:cNvPr id="294" name=""/>
            <p:cNvCxnSpPr/>
            <p:nvPr/>
          </p:nvCxnSpPr>
          <p:spPr>
            <a:xfrm>
              <a:off x="1999800" y="3576240"/>
              <a:ext cx="5179320" cy="42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295" name="heart1" descr=""/>
            <p:cNvPicPr/>
            <p:nvPr/>
          </p:nvPicPr>
          <p:blipFill>
            <a:blip r:embed="rId1"/>
            <a:stretch/>
          </p:blipFill>
          <p:spPr>
            <a:xfrm>
              <a:off x="3395520" y="3117960"/>
              <a:ext cx="1336680" cy="119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1974960" y="4664160"/>
            <a:ext cx="5208120" cy="512640"/>
            <a:chOff x="1974960" y="4664160"/>
            <a:chExt cx="5208120" cy="512640"/>
          </a:xfrm>
        </p:grpSpPr>
        <p:sp>
          <p:nvSpPr>
            <p:cNvPr id="297" name=""/>
            <p:cNvSpPr/>
            <p:nvPr/>
          </p:nvSpPr>
          <p:spPr>
            <a:xfrm>
              <a:off x="1974960" y="4902120"/>
              <a:ext cx="520812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4234680" y="4664160"/>
            <a:ext cx="935640" cy="51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34680" y="4664160"/>
                      <a:ext cx="93564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0" name=""/>
          <p:cNvGraphicFramePr/>
          <p:nvPr/>
        </p:nvGraphicFramePr>
        <p:xfrm>
          <a:off x="379440" y="3321000"/>
          <a:ext cx="1620720" cy="179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440" y="3321000"/>
                    <a:ext cx="162072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7178760" y="3330720"/>
          <a:ext cx="1657440" cy="187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78760" y="3330720"/>
                    <a:ext cx="165744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41640" y="1446120"/>
            <a:ext cx="82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nverheiratete Frau macht oberstem Mann auf ihrer Präferenzliste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inen Heirats-Antra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42400" y="5959440"/>
            <a:ext cx="53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 ist unverheiratet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ie heir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Fall 2: Der Angebetete liebt sie mehr ..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350800" y="2076480"/>
            <a:ext cx="4260960" cy="882720"/>
            <a:chOff x="2350800" y="2076480"/>
            <a:chExt cx="4260960" cy="882720"/>
          </a:xfrm>
        </p:grpSpPr>
        <p:cxnSp>
          <p:nvCxnSpPr>
            <p:cNvPr id="309" name=""/>
            <p:cNvCxnSpPr/>
            <p:nvPr/>
          </p:nvCxnSpPr>
          <p:spPr>
            <a:xfrm flipV="1">
              <a:off x="2350800" y="2576160"/>
              <a:ext cx="4261320" cy="87840"/>
            </a:xfrm>
            <a:prstGeom prst="curvedConnector5">
              <a:avLst>
                <a:gd name="adj1" fmla="val 50000"/>
                <a:gd name="adj2" fmla="val 49794"/>
                <a:gd name="adj3" fmla="val 50000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310" name="heart1" descr=""/>
            <p:cNvPicPr/>
            <p:nvPr/>
          </p:nvPicPr>
          <p:blipFill>
            <a:blip r:embed="rId1"/>
            <a:stretch/>
          </p:blipFill>
          <p:spPr>
            <a:xfrm>
              <a:off x="4536720" y="2076480"/>
              <a:ext cx="985320" cy="8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"/>
          <p:cNvGrpSpPr/>
          <p:nvPr/>
        </p:nvGrpSpPr>
        <p:grpSpPr>
          <a:xfrm>
            <a:off x="2162160" y="3843360"/>
            <a:ext cx="4614840" cy="1192320"/>
            <a:chOff x="2162160" y="3843360"/>
            <a:chExt cx="4614840" cy="1192320"/>
          </a:xfrm>
        </p:grpSpPr>
        <p:sp>
          <p:nvSpPr>
            <p:cNvPr id="312" name=""/>
            <p:cNvSpPr/>
            <p:nvPr/>
          </p:nvSpPr>
          <p:spPr>
            <a:xfrm flipV="1">
              <a:off x="2162160" y="3843360"/>
              <a:ext cx="4614840" cy="119232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4130640" y="4253040"/>
            <a:ext cx="934920" cy="51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30640" y="4253040"/>
                      <a:ext cx="9349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5" name=""/>
          <p:cNvGraphicFramePr/>
          <p:nvPr/>
        </p:nvGraphicFramePr>
        <p:xfrm>
          <a:off x="993600" y="2314440"/>
          <a:ext cx="1252800" cy="138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3600" y="2314440"/>
                    <a:ext cx="125280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52640" y="1346040"/>
            <a:ext cx="82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nverheiratete Frau macht oberstem Mann auf ihrer Präferenzliste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inen Heirats-Antra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18760" y="3890520"/>
            <a:ext cx="5027760" cy="1405080"/>
            <a:chOff x="2318760" y="3890520"/>
            <a:chExt cx="5027760" cy="1405080"/>
          </a:xfrm>
        </p:grpSpPr>
        <p:cxnSp>
          <p:nvCxnSpPr>
            <p:cNvPr id="319" name=""/>
            <p:cNvCxnSpPr/>
            <p:nvPr/>
          </p:nvCxnSpPr>
          <p:spPr>
            <a:xfrm rot="5400000">
              <a:off x="4129920" y="2079000"/>
              <a:ext cx="1405440" cy="50281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320" name="heart1" descr=""/>
            <p:cNvPicPr/>
            <p:nvPr/>
          </p:nvPicPr>
          <p:blipFill>
            <a:blip r:embed="rId6"/>
            <a:stretch/>
          </p:blipFill>
          <p:spPr>
            <a:xfrm>
              <a:off x="5640480" y="4572000"/>
              <a:ext cx="592200" cy="47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"/>
          <p:cNvGrpSpPr/>
          <p:nvPr/>
        </p:nvGrpSpPr>
        <p:grpSpPr>
          <a:xfrm>
            <a:off x="2262240" y="2809800"/>
            <a:ext cx="4446360" cy="513000"/>
            <a:chOff x="2262240" y="2809800"/>
            <a:chExt cx="4446360" cy="513000"/>
          </a:xfrm>
        </p:grpSpPr>
        <p:sp>
          <p:nvSpPr>
            <p:cNvPr id="322" name=""/>
            <p:cNvSpPr/>
            <p:nvPr/>
          </p:nvSpPr>
          <p:spPr>
            <a:xfrm>
              <a:off x="2262240" y="3078000"/>
              <a:ext cx="444636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3" name=""/>
            <p:cNvGraphicFramePr/>
            <p:nvPr/>
          </p:nvGraphicFramePr>
          <p:xfrm>
            <a:off x="3506400" y="2809800"/>
            <a:ext cx="925200" cy="51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6400" y="2809800"/>
                      <a:ext cx="925200" cy="5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5" name=""/>
          <p:cNvGrpSpPr/>
          <p:nvPr/>
        </p:nvGrpSpPr>
        <p:grpSpPr>
          <a:xfrm>
            <a:off x="2069280" y="3548160"/>
            <a:ext cx="4732560" cy="1717920"/>
            <a:chOff x="2069280" y="3548160"/>
            <a:chExt cx="4732560" cy="1717920"/>
          </a:xfrm>
        </p:grpSpPr>
        <p:sp>
          <p:nvSpPr>
            <p:cNvPr id="326" name=""/>
            <p:cNvSpPr/>
            <p:nvPr/>
          </p:nvSpPr>
          <p:spPr>
            <a:xfrm rot="20736000">
              <a:off x="2063520" y="4129200"/>
              <a:ext cx="4743360" cy="55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224080" y="3846600"/>
              <a:ext cx="4467240" cy="1170000"/>
            </a:xfrm>
            <a:prstGeom prst="line">
              <a:avLst/>
            </a:prstGeom>
            <a:ln w="38160">
              <a:solidFill>
                <a:srgbClr val="cc99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scheidungs_ringe" descr=""/>
            <p:cNvPicPr/>
            <p:nvPr/>
          </p:nvPicPr>
          <p:blipFill>
            <a:blip r:embed="rId9"/>
            <a:stretch/>
          </p:blipFill>
          <p:spPr>
            <a:xfrm>
              <a:off x="4135320" y="4241880"/>
              <a:ext cx="911520" cy="5252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9" name=""/>
          <p:cNvGraphicFramePr/>
          <p:nvPr/>
        </p:nvGraphicFramePr>
        <p:xfrm>
          <a:off x="6705720" y="2440080"/>
          <a:ext cx="1280880" cy="1450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05720" y="2440080"/>
                    <a:ext cx="128088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998640" y="4033800"/>
          <a:ext cx="1252440" cy="146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98640" y="4033800"/>
                    <a:ext cx="125244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"/>
          <p:cNvGrpSpPr/>
          <p:nvPr/>
        </p:nvGrpSpPr>
        <p:grpSpPr>
          <a:xfrm>
            <a:off x="2314080" y="3235320"/>
            <a:ext cx="4321800" cy="788760"/>
            <a:chOff x="2314080" y="3235320"/>
            <a:chExt cx="4321800" cy="788760"/>
          </a:xfrm>
        </p:grpSpPr>
        <p:cxnSp>
          <p:nvCxnSpPr>
            <p:cNvPr id="334" name=""/>
            <p:cNvCxnSpPr/>
            <p:nvPr/>
          </p:nvCxnSpPr>
          <p:spPr>
            <a:xfrm rot="10800000">
              <a:off x="2313720" y="3529800"/>
              <a:ext cx="4322160" cy="180000"/>
            </a:xfrm>
            <a:prstGeom prst="curvedConnector5">
              <a:avLst>
                <a:gd name="adj1" fmla="val 49995"/>
                <a:gd name="adj2" fmla="val 49899"/>
                <a:gd name="adj3" fmla="val 49995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335" name="heart1" descr=""/>
            <p:cNvPicPr/>
            <p:nvPr/>
          </p:nvPicPr>
          <p:blipFill>
            <a:blip r:embed="rId14"/>
            <a:stretch/>
          </p:blipFill>
          <p:spPr>
            <a:xfrm>
              <a:off x="4483080" y="3235320"/>
              <a:ext cx="881280" cy="78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219240" y="5649840"/>
            <a:ext cx="864036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 hat sie lieber als seine aktuelle Ehef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 scheidet sich von seiner Frau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nd nimmt den Antrag 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Fall 3: Der Angebetete ist glücklich mit seiner Ehefra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50800" y="2076480"/>
            <a:ext cx="4260960" cy="882720"/>
            <a:chOff x="2350800" y="2076480"/>
            <a:chExt cx="4260960" cy="882720"/>
          </a:xfrm>
        </p:grpSpPr>
        <p:cxnSp>
          <p:nvCxnSpPr>
            <p:cNvPr id="340" name=""/>
            <p:cNvCxnSpPr/>
            <p:nvPr/>
          </p:nvCxnSpPr>
          <p:spPr>
            <a:xfrm flipV="1">
              <a:off x="2350800" y="2576160"/>
              <a:ext cx="4261320" cy="87840"/>
            </a:xfrm>
            <a:prstGeom prst="curvedConnector5">
              <a:avLst>
                <a:gd name="adj1" fmla="val 50000"/>
                <a:gd name="adj2" fmla="val 49794"/>
                <a:gd name="adj3" fmla="val 50000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341" name="heart1" descr=""/>
            <p:cNvPicPr/>
            <p:nvPr/>
          </p:nvPicPr>
          <p:blipFill>
            <a:blip r:embed="rId1"/>
            <a:stretch/>
          </p:blipFill>
          <p:spPr>
            <a:xfrm>
              <a:off x="4536720" y="2076480"/>
              <a:ext cx="985320" cy="8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"/>
          <p:cNvGrpSpPr/>
          <p:nvPr/>
        </p:nvGrpSpPr>
        <p:grpSpPr>
          <a:xfrm>
            <a:off x="2162160" y="3843360"/>
            <a:ext cx="4614840" cy="1192320"/>
            <a:chOff x="2162160" y="3843360"/>
            <a:chExt cx="4614840" cy="1192320"/>
          </a:xfrm>
        </p:grpSpPr>
        <p:sp>
          <p:nvSpPr>
            <p:cNvPr id="343" name=""/>
            <p:cNvSpPr/>
            <p:nvPr/>
          </p:nvSpPr>
          <p:spPr>
            <a:xfrm flipV="1">
              <a:off x="2162160" y="3843360"/>
              <a:ext cx="4614840" cy="119232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4" name=""/>
            <p:cNvGraphicFramePr/>
            <p:nvPr/>
          </p:nvGraphicFramePr>
          <p:xfrm>
            <a:off x="4130640" y="4253040"/>
            <a:ext cx="934920" cy="51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30640" y="4253040"/>
                      <a:ext cx="9349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6" name=""/>
          <p:cNvGraphicFramePr/>
          <p:nvPr/>
        </p:nvGraphicFramePr>
        <p:xfrm>
          <a:off x="993600" y="2314440"/>
          <a:ext cx="1252800" cy="138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3600" y="2314440"/>
                    <a:ext cx="125280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52640" y="1346040"/>
            <a:ext cx="825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Unverheiratete Frau macht oberstem Mann auf ihrer Präferenzliste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inen Heirats-Antra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318760" y="3890520"/>
            <a:ext cx="5027760" cy="1406880"/>
            <a:chOff x="2318760" y="3890520"/>
            <a:chExt cx="5027760" cy="1406880"/>
          </a:xfrm>
        </p:grpSpPr>
        <p:cxnSp>
          <p:nvCxnSpPr>
            <p:cNvPr id="350" name=""/>
            <p:cNvCxnSpPr/>
            <p:nvPr/>
          </p:nvCxnSpPr>
          <p:spPr>
            <a:xfrm rot="5400000">
              <a:off x="4129920" y="2079000"/>
              <a:ext cx="1405440" cy="50281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351" name="heart1" descr=""/>
            <p:cNvPicPr/>
            <p:nvPr/>
          </p:nvPicPr>
          <p:blipFill>
            <a:blip r:embed="rId6"/>
            <a:stretch/>
          </p:blipFill>
          <p:spPr>
            <a:xfrm>
              <a:off x="5370480" y="4467240"/>
              <a:ext cx="1023840" cy="830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52" name=""/>
          <p:cNvGraphicFramePr/>
          <p:nvPr/>
        </p:nvGraphicFramePr>
        <p:xfrm>
          <a:off x="6705720" y="2440080"/>
          <a:ext cx="128088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2440080"/>
                    <a:ext cx="128088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998640" y="4033800"/>
          <a:ext cx="1252440" cy="14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8640" y="4033800"/>
                    <a:ext cx="125244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"/>
          <p:cNvGrpSpPr/>
          <p:nvPr/>
        </p:nvGrpSpPr>
        <p:grpSpPr>
          <a:xfrm>
            <a:off x="2314080" y="3328920"/>
            <a:ext cx="4321800" cy="544680"/>
            <a:chOff x="2314080" y="3328920"/>
            <a:chExt cx="4321800" cy="544680"/>
          </a:xfrm>
        </p:grpSpPr>
        <p:cxnSp>
          <p:nvCxnSpPr>
            <p:cNvPr id="357" name=""/>
            <p:cNvCxnSpPr/>
            <p:nvPr/>
          </p:nvCxnSpPr>
          <p:spPr>
            <a:xfrm rot="10800000">
              <a:off x="2313720" y="3529800"/>
              <a:ext cx="4322160" cy="180360"/>
            </a:xfrm>
            <a:prstGeom prst="curvedConnector5">
              <a:avLst>
                <a:gd name="adj1" fmla="val 49995"/>
                <a:gd name="adj2" fmla="val 50000"/>
                <a:gd name="adj3" fmla="val 49995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pic>
          <p:nvPicPr>
            <p:cNvPr id="358" name="heart1" descr=""/>
            <p:cNvPicPr/>
            <p:nvPr/>
          </p:nvPicPr>
          <p:blipFill>
            <a:blip r:embed="rId11"/>
            <a:stretch/>
          </p:blipFill>
          <p:spPr>
            <a:xfrm>
              <a:off x="4211640" y="3328920"/>
              <a:ext cx="60804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"/>
          <p:cNvSpPr/>
          <p:nvPr/>
        </p:nvSpPr>
        <p:spPr>
          <a:xfrm>
            <a:off x="4476600" y="2013120"/>
            <a:ext cx="1159200" cy="961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24120" y="1932120"/>
            <a:ext cx="995400" cy="1089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0560" y="5794200"/>
            <a:ext cx="837072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r hat sie nicht lieber als seine aktuelle Ehefr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ie streicht ihn von ihrer 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7464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Der Algorithmus ist ungerecht!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8560" y="1768320"/>
            <a:ext cx="84178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Bei diesem Algorithmus werden die Frauen bevorzu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an kann sogar beweisen:</a:t>
            </a:r>
            <a:br>
              <a:rPr sz="20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r Algorithmus findet eine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Frau-optimale Lös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5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heisst, jene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tabile Heirat, bei welcher die Frauen am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zufriedensten sind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ätten wir anstatt den Frauen, die Männer auslesen lassen,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o würden wir eine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Mann-optimale stabile Heirat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fi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Zuordnungsproblem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etwas alltäglich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680" y="147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6280" y="1301760"/>
            <a:ext cx="8370720" cy="1679400"/>
            <a:chOff x="206280" y="1301760"/>
            <a:chExt cx="8370720" cy="1679400"/>
          </a:xfrm>
        </p:grpSpPr>
        <p:pic>
          <p:nvPicPr>
            <p:cNvPr id="86" name="zuordnungsproblem_sitzordnung" descr=""/>
            <p:cNvPicPr/>
            <p:nvPr/>
          </p:nvPicPr>
          <p:blipFill>
            <a:blip r:embed="rId1"/>
            <a:srcRect l="0" t="37915" r="32333" b="33650"/>
            <a:stretch/>
          </p:blipFill>
          <p:spPr>
            <a:xfrm>
              <a:off x="206280" y="1344600"/>
              <a:ext cx="51926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380200" y="1301760"/>
              <a:ext cx="319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Sitzordnung </a:t>
              </a:r>
              <a:br>
                <a:rPr sz="2400"/>
              </a:b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am Geburtstagsfes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Wer sitzt neben w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74760" y="3057480"/>
            <a:ext cx="8558280" cy="2546280"/>
            <a:chOff x="374760" y="3057480"/>
            <a:chExt cx="8558280" cy="2546280"/>
          </a:xfrm>
        </p:grpSpPr>
        <p:sp>
          <p:nvSpPr>
            <p:cNvPr id="89" name=""/>
            <p:cNvSpPr/>
            <p:nvPr/>
          </p:nvSpPr>
          <p:spPr>
            <a:xfrm>
              <a:off x="374760" y="3124080"/>
              <a:ext cx="410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Zimmereinteilu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im Zeltlag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Wer ist mit wem im Zel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zuordnungsproblem_ferienlager" descr=""/>
            <p:cNvPicPr/>
            <p:nvPr/>
          </p:nvPicPr>
          <p:blipFill>
            <a:blip r:embed="rId2"/>
            <a:srcRect l="0" t="0" r="0" b="20100"/>
            <a:stretch/>
          </p:blipFill>
          <p:spPr>
            <a:xfrm>
              <a:off x="4191120" y="3057480"/>
              <a:ext cx="4741920" cy="254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223920" y="4527720"/>
            <a:ext cx="7739280" cy="2145960"/>
            <a:chOff x="223920" y="4527720"/>
            <a:chExt cx="7739280" cy="2145960"/>
          </a:xfrm>
        </p:grpSpPr>
        <p:pic>
          <p:nvPicPr>
            <p:cNvPr id="92" name="zuordnungsproblem_mannschaft" descr=""/>
            <p:cNvPicPr/>
            <p:nvPr/>
          </p:nvPicPr>
          <p:blipFill>
            <a:blip r:embed="rId3"/>
            <a:srcRect l="0" t="12219" r="9554" b="10010"/>
            <a:stretch/>
          </p:blipFill>
          <p:spPr>
            <a:xfrm>
              <a:off x="223920" y="4527720"/>
              <a:ext cx="3316320" cy="21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547440" y="5808600"/>
              <a:ext cx="441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Teameinteilung im Spor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400" spc="-1" strike="noStrike">
                  <a:solidFill>
                    <a:srgbClr val="000000"/>
                  </a:solidFill>
                  <a:latin typeface="Arial"/>
                </a:rPr>
                <a:t>Wer ist in welcher Mannschaf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Zuordnungsproblem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in der Schul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64040" y="1614600"/>
            <a:ext cx="343116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tundenplä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Klasseneintei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Zimmerplä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Gruppeneintei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680" y="147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6880" y="4273560"/>
            <a:ext cx="33501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chüler in K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Klassen zu Zi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Lehrer zu K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Klassen in Gru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uordnungsproblem_schulklasse" descr=""/>
          <p:cNvPicPr/>
          <p:nvPr/>
        </p:nvPicPr>
        <p:blipFill>
          <a:blip r:embed="rId1"/>
          <a:stretch/>
        </p:blipFill>
        <p:spPr>
          <a:xfrm>
            <a:off x="187200" y="1249200"/>
            <a:ext cx="4513320" cy="2656080"/>
          </a:xfrm>
          <a:prstGeom prst="rect">
            <a:avLst/>
          </a:prstGeom>
          <a:ln w="0">
            <a:noFill/>
          </a:ln>
        </p:spPr>
      </p:pic>
      <p:pic>
        <p:nvPicPr>
          <p:cNvPr id="100" name="zuordnungsproblem_stundenplan" descr=""/>
          <p:cNvPicPr/>
          <p:nvPr/>
        </p:nvPicPr>
        <p:blipFill>
          <a:blip r:embed="rId2"/>
          <a:srcRect l="0" t="10624" r="0" b="8565"/>
          <a:stretch/>
        </p:blipFill>
        <p:spPr>
          <a:xfrm>
            <a:off x="4354560" y="4052880"/>
            <a:ext cx="46148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Zuordnungsproblem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im Fussbal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3" name="zuordnungsproblem_uefa" descr=""/>
          <p:cNvPicPr/>
          <p:nvPr/>
        </p:nvPicPr>
        <p:blipFill>
          <a:blip r:embed="rId1"/>
          <a:stretch/>
        </p:blipFill>
        <p:spPr>
          <a:xfrm>
            <a:off x="222120" y="1297080"/>
            <a:ext cx="3489480" cy="259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73240" y="5030640"/>
            <a:ext cx="4231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Mannschaften in Gru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piele auf Spie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chiedsrichter zu Spi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zuordnungsproblem_championsleague" descr=""/>
          <p:cNvPicPr/>
          <p:nvPr/>
        </p:nvPicPr>
        <p:blipFill>
          <a:blip r:embed="rId2"/>
          <a:stretch/>
        </p:blipFill>
        <p:spPr>
          <a:xfrm>
            <a:off x="5776920" y="3240000"/>
            <a:ext cx="3068640" cy="347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76840" y="1440000"/>
            <a:ext cx="4687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Wer spielt gegen w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Wer spielt zuerst zu Ha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hampionsleaguelogo" descr=""/>
          <p:cNvPicPr/>
          <p:nvPr/>
        </p:nvPicPr>
        <p:blipFill>
          <a:blip r:embed="rId3"/>
          <a:stretch/>
        </p:blipFill>
        <p:spPr>
          <a:xfrm>
            <a:off x="3990960" y="2762280"/>
            <a:ext cx="14860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Zuordnungsproblem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im Beruf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54200" y="1601640"/>
            <a:ext cx="42314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Wer arbeitet mit w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Wer ist für was zuständi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Wer ist in welchem Bü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0560" y="4532400"/>
            <a:ext cx="23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8840" y="3979800"/>
            <a:ext cx="45010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Zusammenstellen von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rojekt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Ferien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rojekte auf Teams ver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chichtein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zuordnungsproblem_team" descr=""/>
          <p:cNvPicPr/>
          <p:nvPr/>
        </p:nvPicPr>
        <p:blipFill>
          <a:blip r:embed="rId1"/>
          <a:stretch/>
        </p:blipFill>
        <p:spPr>
          <a:xfrm>
            <a:off x="477720" y="1089000"/>
            <a:ext cx="2793960" cy="2793960"/>
          </a:xfrm>
          <a:prstGeom prst="rect">
            <a:avLst/>
          </a:prstGeom>
          <a:ln w="0">
            <a:noFill/>
          </a:ln>
        </p:spPr>
      </p:pic>
      <p:pic>
        <p:nvPicPr>
          <p:cNvPr id="114" name="zuordnungsproblem_organigramm" descr=""/>
          <p:cNvPicPr/>
          <p:nvPr/>
        </p:nvPicPr>
        <p:blipFill>
          <a:blip r:embed="rId2"/>
          <a:srcRect l="14997" t="0" r="0" b="0"/>
          <a:stretch/>
        </p:blipFill>
        <p:spPr>
          <a:xfrm>
            <a:off x="5448240" y="3673440"/>
            <a:ext cx="34639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7" name="maeuse_heiraten" descr=""/>
          <p:cNvPicPr/>
          <p:nvPr/>
        </p:nvPicPr>
        <p:blipFill>
          <a:blip r:embed="rId1"/>
          <a:stretch/>
        </p:blipFill>
        <p:spPr>
          <a:xfrm>
            <a:off x="776160" y="1911240"/>
            <a:ext cx="76201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Ziel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1763640"/>
            <a:ext cx="79992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Jeder weiss, was ein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Heiratsproblem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hr könnt selbst erklären, was man dabei unter einer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"stabilen Heirat"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er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hr kennt den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Algorithmus zum Finden einer Mann- oder Frau-optimalen stabilen Heir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hr könnt diesen Algorithmus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in eigenen Worten formulier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hr könnt diesen Algorithmus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von Hand durchfüh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Das berühmteste Zuordnungsproblem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50840" y="1158840"/>
          <a:ext cx="9208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158840"/>
                    <a:ext cx="9208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046160" y="2255760"/>
          <a:ext cx="92088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6160" y="2255760"/>
                    <a:ext cx="92088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41480" y="3314880"/>
          <a:ext cx="920520" cy="10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1480" y="3314880"/>
                    <a:ext cx="92052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047600" y="4478400"/>
          <a:ext cx="920880" cy="105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7600" y="4478400"/>
                    <a:ext cx="92088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140600" y="1184400"/>
          <a:ext cx="900000" cy="102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0600" y="1184400"/>
                    <a:ext cx="90000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140600" y="2274840"/>
          <a:ext cx="900000" cy="105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0600" y="2274840"/>
                    <a:ext cx="9000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140600" y="3354480"/>
          <a:ext cx="900000" cy="105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40600" y="3354480"/>
                    <a:ext cx="9000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151760" y="4460760"/>
          <a:ext cx="900000" cy="105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51760" y="4460760"/>
                    <a:ext cx="90000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589840" y="617688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Wer soll mit wem heira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1971360" y="1681200"/>
            <a:ext cx="5088600" cy="2048400"/>
          </a:xfrm>
          <a:prstGeom prst="curvedConnector5">
            <a:avLst>
              <a:gd name="adj1" fmla="val 47707"/>
              <a:gd name="adj2" fmla="val 49991"/>
              <a:gd name="adj3" fmla="val 47707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>
            <a:off x="2082960" y="1695240"/>
            <a:ext cx="4977360" cy="792720"/>
          </a:xfrm>
          <a:prstGeom prst="curvedConnector5">
            <a:avLst>
              <a:gd name="adj1" fmla="val 49981"/>
              <a:gd name="adj2" fmla="val 49977"/>
              <a:gd name="adj3" fmla="val 4998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>
            <a:off x="2006640" y="1298160"/>
            <a:ext cx="5076000" cy="1882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3" name="heart1" descr=""/>
          <p:cNvPicPr/>
          <p:nvPr/>
        </p:nvPicPr>
        <p:blipFill>
          <a:blip r:embed="rId17"/>
          <a:stretch/>
        </p:blipFill>
        <p:spPr>
          <a:xfrm>
            <a:off x="4464000" y="1671480"/>
            <a:ext cx="824040" cy="668520"/>
          </a:xfrm>
          <a:prstGeom prst="rect">
            <a:avLst/>
          </a:prstGeom>
          <a:ln w="0">
            <a:noFill/>
          </a:ln>
        </p:spPr>
      </p:pic>
      <p:cxnSp>
        <p:nvCxnSpPr>
          <p:cNvPr id="144" name=""/>
          <p:cNvCxnSpPr/>
          <p:nvPr/>
        </p:nvCxnSpPr>
        <p:spPr>
          <a:xfrm flipV="1">
            <a:off x="2060280" y="1867680"/>
            <a:ext cx="4988160" cy="2885400"/>
          </a:xfrm>
          <a:prstGeom prst="curvedConnector5">
            <a:avLst>
              <a:gd name="adj1" fmla="val 44395"/>
              <a:gd name="adj2" fmla="val 50000"/>
              <a:gd name="adj3" fmla="val 44395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>
            <a:off x="2054160" y="3860280"/>
            <a:ext cx="5006160" cy="27396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>
            <a:off x="2054160" y="4011480"/>
            <a:ext cx="5006160" cy="1091520"/>
          </a:xfrm>
          <a:prstGeom prst="curvedConnector5">
            <a:avLst>
              <a:gd name="adj1" fmla="val 49982"/>
              <a:gd name="adj2" fmla="val 49983"/>
              <a:gd name="adj3" fmla="val 4998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7" name="heart1" descr=""/>
          <p:cNvPicPr/>
          <p:nvPr/>
        </p:nvPicPr>
        <p:blipFill>
          <a:blip r:embed="rId18"/>
          <a:stretch/>
        </p:blipFill>
        <p:spPr>
          <a:xfrm>
            <a:off x="3824280" y="1179360"/>
            <a:ext cx="735120" cy="595440"/>
          </a:xfrm>
          <a:prstGeom prst="rect">
            <a:avLst/>
          </a:prstGeom>
          <a:ln w="0">
            <a:noFill/>
          </a:ln>
        </p:spPr>
      </p:pic>
      <p:pic>
        <p:nvPicPr>
          <p:cNvPr id="148" name="heart1" descr=""/>
          <p:cNvPicPr/>
          <p:nvPr/>
        </p:nvPicPr>
        <p:blipFill>
          <a:blip r:embed="rId19"/>
          <a:stretch/>
        </p:blipFill>
        <p:spPr>
          <a:xfrm>
            <a:off x="4729320" y="4648320"/>
            <a:ext cx="561960" cy="455400"/>
          </a:xfrm>
          <a:prstGeom prst="rect">
            <a:avLst/>
          </a:prstGeom>
          <a:ln w="0">
            <a:noFill/>
          </a:ln>
        </p:spPr>
      </p:pic>
      <p:cxnSp>
        <p:nvCxnSpPr>
          <p:cNvPr id="149" name=""/>
          <p:cNvCxnSpPr/>
          <p:nvPr/>
        </p:nvCxnSpPr>
        <p:spPr>
          <a:xfrm flipV="1" rot="10800000">
            <a:off x="1507320" y="2800440"/>
            <a:ext cx="5517360" cy="2737080"/>
          </a:xfrm>
          <a:prstGeom prst="curvedConnector5">
            <a:avLst>
              <a:gd name="adj1" fmla="val 45814"/>
              <a:gd name="adj2" fmla="val 54169"/>
              <a:gd name="adj3" fmla="val 45814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50" name="heart1" descr=""/>
          <p:cNvPicPr/>
          <p:nvPr/>
        </p:nvPicPr>
        <p:blipFill>
          <a:blip r:embed="rId20"/>
          <a:stretch/>
        </p:blipFill>
        <p:spPr>
          <a:xfrm>
            <a:off x="2367000" y="5452920"/>
            <a:ext cx="804960" cy="652680"/>
          </a:xfrm>
          <a:prstGeom prst="rect">
            <a:avLst/>
          </a:prstGeom>
          <a:ln w="0">
            <a:noFill/>
          </a:ln>
        </p:spPr>
      </p:pic>
      <p:pic>
        <p:nvPicPr>
          <p:cNvPr id="151" name="heart1" descr=""/>
          <p:cNvPicPr/>
          <p:nvPr/>
        </p:nvPicPr>
        <p:blipFill>
          <a:blip r:embed="rId21"/>
          <a:stretch/>
        </p:blipFill>
        <p:spPr>
          <a:xfrm>
            <a:off x="3319560" y="1800360"/>
            <a:ext cx="561960" cy="455400"/>
          </a:xfrm>
          <a:prstGeom prst="rect">
            <a:avLst/>
          </a:prstGeom>
          <a:ln w="0">
            <a:noFill/>
          </a:ln>
        </p:spPr>
      </p:pic>
      <p:pic>
        <p:nvPicPr>
          <p:cNvPr id="152" name="heart1" descr=""/>
          <p:cNvPicPr/>
          <p:nvPr/>
        </p:nvPicPr>
        <p:blipFill>
          <a:blip r:embed="rId22"/>
          <a:stretch/>
        </p:blipFill>
        <p:spPr>
          <a:xfrm>
            <a:off x="5840280" y="3916440"/>
            <a:ext cx="73980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heart1" descr=""/>
          <p:cNvPicPr/>
          <p:nvPr/>
        </p:nvPicPr>
        <p:blipFill>
          <a:blip r:embed="rId23"/>
          <a:stretch/>
        </p:blipFill>
        <p:spPr>
          <a:xfrm>
            <a:off x="2727360" y="4240080"/>
            <a:ext cx="666720" cy="540000"/>
          </a:xfrm>
          <a:prstGeom prst="rect">
            <a:avLst/>
          </a:prstGeom>
          <a:ln w="0">
            <a:noFill/>
          </a:ln>
        </p:spPr>
      </p:pic>
      <p:cxnSp>
        <p:nvCxnSpPr>
          <p:cNvPr id="154" name=""/>
          <p:cNvCxnSpPr/>
          <p:nvPr/>
        </p:nvCxnSpPr>
        <p:spPr>
          <a:xfrm flipV="1" rot="10800000">
            <a:off x="2058120" y="2580840"/>
            <a:ext cx="4990320" cy="92880"/>
          </a:xfrm>
          <a:prstGeom prst="curvedConnector5">
            <a:avLst>
              <a:gd name="adj1" fmla="val 49981"/>
              <a:gd name="adj2" fmla="val 49805"/>
              <a:gd name="adj3" fmla="val 4998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55" name="heart1" descr=""/>
          <p:cNvPicPr/>
          <p:nvPr/>
        </p:nvPicPr>
        <p:blipFill>
          <a:blip r:embed="rId24"/>
          <a:stretch/>
        </p:blipFill>
        <p:spPr>
          <a:xfrm>
            <a:off x="5481720" y="2398680"/>
            <a:ext cx="592200" cy="479520"/>
          </a:xfrm>
          <a:prstGeom prst="rect">
            <a:avLst/>
          </a:prstGeom>
          <a:ln w="0">
            <a:noFill/>
          </a:ln>
        </p:spPr>
      </p:pic>
      <p:cxnSp>
        <p:nvCxnSpPr>
          <p:cNvPr id="156" name=""/>
          <p:cNvCxnSpPr/>
          <p:nvPr/>
        </p:nvCxnSpPr>
        <p:spPr>
          <a:xfrm flipV="1" rot="16200000">
            <a:off x="4660200" y="2569320"/>
            <a:ext cx="320040" cy="5564880"/>
          </a:xfrm>
          <a:prstGeom prst="curvedConnector5">
            <a:avLst>
              <a:gd name="adj1" fmla="val -71621"/>
              <a:gd name="adj2" fmla="val 27016"/>
              <a:gd name="adj3" fmla="val -7162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57" name="heart1" descr=""/>
          <p:cNvPicPr/>
          <p:nvPr/>
        </p:nvPicPr>
        <p:blipFill>
          <a:blip r:embed="rId25"/>
          <a:stretch/>
        </p:blipFill>
        <p:spPr>
          <a:xfrm>
            <a:off x="4846680" y="5384880"/>
            <a:ext cx="804960" cy="652320"/>
          </a:xfrm>
          <a:prstGeom prst="rect">
            <a:avLst/>
          </a:prstGeom>
          <a:ln w="0">
            <a:noFill/>
          </a:ln>
        </p:spPr>
      </p:pic>
      <p:cxnSp>
        <p:nvCxnSpPr>
          <p:cNvPr id="158" name=""/>
          <p:cNvCxnSpPr/>
          <p:nvPr/>
        </p:nvCxnSpPr>
        <p:spPr>
          <a:xfrm rot="10800000">
            <a:off x="1961280" y="2063160"/>
            <a:ext cx="5109480" cy="2750040"/>
          </a:xfrm>
          <a:prstGeom prst="curvedConnector5">
            <a:avLst>
              <a:gd name="adj1" fmla="val 51141"/>
              <a:gd name="adj2" fmla="val 50000"/>
              <a:gd name="adj3" fmla="val 5114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59" name="heart1" descr=""/>
          <p:cNvPicPr/>
          <p:nvPr/>
        </p:nvPicPr>
        <p:blipFill>
          <a:blip r:embed="rId26"/>
          <a:stretch/>
        </p:blipFill>
        <p:spPr>
          <a:xfrm>
            <a:off x="2556000" y="2016000"/>
            <a:ext cx="392040" cy="31752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/>
          <p:nvPr/>
        </p:nvCxnSpPr>
        <p:spPr>
          <a:xfrm rot="10800000">
            <a:off x="2013840" y="2915640"/>
            <a:ext cx="5034600" cy="98820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1" name="heart1" descr=""/>
          <p:cNvPicPr/>
          <p:nvPr/>
        </p:nvPicPr>
        <p:blipFill>
          <a:blip r:embed="rId27"/>
          <a:stretch/>
        </p:blipFill>
        <p:spPr>
          <a:xfrm>
            <a:off x="2924280" y="2751120"/>
            <a:ext cx="838080" cy="679320"/>
          </a:xfrm>
          <a:prstGeom prst="rect">
            <a:avLst/>
          </a:prstGeom>
          <a:ln w="0">
            <a:noFill/>
          </a:ln>
        </p:spPr>
      </p:pic>
      <p:cxnSp>
        <p:nvCxnSpPr>
          <p:cNvPr id="162" name=""/>
          <p:cNvCxnSpPr/>
          <p:nvPr/>
        </p:nvCxnSpPr>
        <p:spPr>
          <a:xfrm flipV="1" rot="10800000">
            <a:off x="2037600" y="3495240"/>
            <a:ext cx="5047200" cy="138960"/>
          </a:xfrm>
          <a:prstGeom prst="curvedConnector5">
            <a:avLst>
              <a:gd name="adj1" fmla="val 49989"/>
              <a:gd name="adj2" fmla="val 49870"/>
              <a:gd name="adj3" fmla="val 49989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3" name="heart1" descr=""/>
          <p:cNvPicPr/>
          <p:nvPr/>
        </p:nvPicPr>
        <p:blipFill>
          <a:blip r:embed="rId28"/>
          <a:stretch/>
        </p:blipFill>
        <p:spPr>
          <a:xfrm>
            <a:off x="2500200" y="3425760"/>
            <a:ext cx="507960" cy="411120"/>
          </a:xfrm>
          <a:prstGeom prst="rect">
            <a:avLst/>
          </a:prstGeom>
          <a:ln w="0">
            <a:noFill/>
          </a:ln>
        </p:spPr>
      </p:pic>
      <p:cxnSp>
        <p:nvCxnSpPr>
          <p:cNvPr id="164" name=""/>
          <p:cNvCxnSpPr/>
          <p:nvPr/>
        </p:nvCxnSpPr>
        <p:spPr>
          <a:xfrm flipV="1">
            <a:off x="2071440" y="3077280"/>
            <a:ext cx="4908960" cy="1934280"/>
          </a:xfrm>
          <a:prstGeom prst="curvedConnector5">
            <a:avLst>
              <a:gd name="adj1" fmla="val 72541"/>
              <a:gd name="adj2" fmla="val 50000"/>
              <a:gd name="adj3" fmla="val 7254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65" name="heart1" descr=""/>
          <p:cNvPicPr/>
          <p:nvPr/>
        </p:nvPicPr>
        <p:blipFill>
          <a:blip r:embed="rId29"/>
          <a:stretch/>
        </p:blipFill>
        <p:spPr>
          <a:xfrm>
            <a:off x="3481560" y="4637160"/>
            <a:ext cx="56196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3333cc"/>
                </a:solidFill>
                <a:latin typeface="Arial"/>
              </a:rPr>
              <a:t>Heirats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8395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3333cc"/>
                </a:solidFill>
                <a:latin typeface="Arial"/>
              </a:rPr>
              <a:t>Zuordnungsproblem zwischen 2 Menge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127960" y="1781280"/>
            <a:ext cx="4317840" cy="484920"/>
            <a:chOff x="2127960" y="1781280"/>
            <a:chExt cx="4317840" cy="484920"/>
          </a:xfrm>
        </p:grpSpPr>
        <p:sp>
          <p:nvSpPr>
            <p:cNvPr id="169" name=""/>
            <p:cNvSpPr/>
            <p:nvPr/>
          </p:nvSpPr>
          <p:spPr>
            <a:xfrm>
              <a:off x="2127960" y="1781280"/>
              <a:ext cx="11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Frau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180648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Män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9640" y="2017440"/>
              <a:ext cx="148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64240" y="2563920"/>
            <a:ext cx="7199280" cy="484920"/>
            <a:chOff x="1164240" y="2563920"/>
            <a:chExt cx="7199280" cy="484920"/>
          </a:xfrm>
        </p:grpSpPr>
        <p:sp>
          <p:nvSpPr>
            <p:cNvPr id="173" name=""/>
            <p:cNvSpPr/>
            <p:nvPr/>
          </p:nvSpPr>
          <p:spPr>
            <a:xfrm>
              <a:off x="1164240" y="256392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Algorithmik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5080" y="2589120"/>
              <a:ext cx="31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Programmiererin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12880" y="2800080"/>
              <a:ext cx="148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90560" y="3382920"/>
            <a:ext cx="6585120" cy="485280"/>
            <a:chOff x="790560" y="3382920"/>
            <a:chExt cx="6585120" cy="485280"/>
          </a:xfrm>
        </p:grpSpPr>
        <p:sp>
          <p:nvSpPr>
            <p:cNvPr id="177" name=""/>
            <p:cNvSpPr/>
            <p:nvPr/>
          </p:nvSpPr>
          <p:spPr>
            <a:xfrm>
              <a:off x="790560" y="3382920"/>
              <a:ext cx="253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Stellenangeb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81840" y="3408480"/>
              <a:ext cx="21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Bewerb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09640" y="3619440"/>
              <a:ext cx="148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812880" y="4168800"/>
            <a:ext cx="6502680" cy="484920"/>
            <a:chOff x="812880" y="4168800"/>
            <a:chExt cx="6502680" cy="484920"/>
          </a:xfrm>
        </p:grpSpPr>
        <p:sp>
          <p:nvSpPr>
            <p:cNvPr id="181" name=""/>
            <p:cNvSpPr/>
            <p:nvPr/>
          </p:nvSpPr>
          <p:spPr>
            <a:xfrm>
              <a:off x="812880" y="416880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Praktikumplä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88680" y="4194000"/>
              <a:ext cx="21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Studentin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7560" y="4404960"/>
              <a:ext cx="148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25800" y="4998960"/>
            <a:ext cx="6553440" cy="485280"/>
            <a:chOff x="2125800" y="4998960"/>
            <a:chExt cx="6553440" cy="485280"/>
          </a:xfrm>
        </p:grpSpPr>
        <p:sp>
          <p:nvSpPr>
            <p:cNvPr id="185" name=""/>
            <p:cNvSpPr/>
            <p:nvPr/>
          </p:nvSpPr>
          <p:spPr>
            <a:xfrm>
              <a:off x="2125800" y="49989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Trai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7680" y="5024520"/>
              <a:ext cx="34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400" spc="-1" strike="noStrike">
                  <a:solidFill>
                    <a:srgbClr val="000000"/>
                  </a:solidFill>
                  <a:latin typeface="Arial"/>
                </a:rPr>
                <a:t>Fussballmannschaf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25480" y="5235480"/>
              <a:ext cx="148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434960" y="5989680"/>
            <a:ext cx="6179040" cy="4597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de Mengen seien jeweils gleich gro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7:04:02Z</dcterms:created>
  <dc:creator>bruderol</dc:creator>
  <dc:description/>
  <dc:language>en-US</dc:language>
  <cp:lastModifiedBy>bruderol</cp:lastModifiedBy>
  <cp:lastPrinted>2002-11-17T17:56:24Z</cp:lastPrinted>
  <dcterms:modified xsi:type="dcterms:W3CDTF">2003-09-29T16:05:10Z</dcterms:modified>
  <cp:revision>22</cp:revision>
  <dc:subject/>
  <dc:title>Heiratsproblem</dc:title>
</cp:coreProperties>
</file>