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6F0-EB67-4F61-BAF1-F2B003A0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746-E975-46CF-AE3A-810102A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EC2-E59B-4D09-98F7-F3ABAF8A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BBB-9405-4C02-9F4B-E4A1E0E1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29F-6BDF-48C2-8A13-91BDB14C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BFD-778C-40CF-9B90-3245A9F0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A18E-3F67-4738-A0A9-6C6E569D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3B6-A2A2-44B5-ABE2-A6E98E28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FC11-6FEB-49EF-8F43-19161DE7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33C9-1FB8-4357-95C4-B1606D6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3BB-DA2C-4A94-9331-AF45C2E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1D7-0F58-42DE-833C-B2C8108C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D20A-1E20-4704-B886-3639A1BB4B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haben wir auf unser Kärtchen geschrieben und geler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572000" cy="323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495680" cy="323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960" y="12193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us, domus f.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432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6800" y="12193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2120"/>
            <a:ext cx="8915400" cy="70380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nn er mit dir redet und „Haus“ sagt, so weißt du nun nicht, ob er vor seinem geistigen Auge eines dieser ganz konkreten Häuser 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762120"/>
            <a:ext cx="8915400" cy="100872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öglicherweise denkt er auch nicht an ein konkretes Haus, sondern an die Dinge, die ein Haus zum Haus machen wie Dach, Mauern, Räume, Fenster - Dinge, die zu allen Häusern gehö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62120"/>
            <a:ext cx="8915400" cy="70380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sagt in diesem Fall, er denkt „abstrakt“. Dieses Denken erlaubt es ihm, verschiedene Haustypen als „Haus“ zu identi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762120"/>
            <a:ext cx="8915400" cy="70380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Ob auch der Römer dies könnte, weiss ich nicht. Auf jeden Fall gehören alle die gezeigten Häuser nicht zu seinem Erfahrungshorizo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Wenn er „domus“ sagt, sieht sein geistiges Auge folgen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3962160" cy="29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762120"/>
            <a:ext cx="8915400" cy="100872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türlich wird der Schweizer dieses Gebäude auch als „Haus“ identifizieren können. Aber er muss sich damit beschäftigen, wenn er wissen will, was ein Römer unter „domus“ verste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3962160" cy="2992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3962160" cy="29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762120"/>
            <a:ext cx="8915400" cy="100872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lso: domus ≠ Haus! – Wenn wir die Antike bzw. die Römer richtig verstehen wollen, müssen wir uns oft fragen, was sie unter einem lateinischen Wort genau verstanden ha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3962160" cy="2992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04920" y="1981080"/>
            <a:ext cx="3962160" cy="29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shalb wollen wir jetzt „domus“ kennen ler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shalb wollen wir jetzt „domus“ kennen lern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5410080"/>
            <a:ext cx="990720" cy="7621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5791320"/>
            <a:ext cx="3276360" cy="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314360" y="1143000"/>
            <a:ext cx="6513480" cy="4803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864520" y="60958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mpeji: Casa di Sallus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LSO: domus = das H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572000" cy="323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495680" cy="3232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960" y="12193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us, domus f.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432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6800" y="12193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64520" y="609588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mpeji: Casa di Lucrezio F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trium mit Cartib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96920" y="1143000"/>
            <a:ext cx="6948360" cy="48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376360" y="1143000"/>
            <a:ext cx="4391280" cy="49528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08160" y="6095880"/>
            <a:ext cx="49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mpeji: Grab des C. Vesorius Pris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artib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ompluvium – Impluv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1676520"/>
            <a:ext cx="228600" cy="15228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3505320"/>
            <a:ext cx="0" cy="38088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ompluv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0760" y="6095880"/>
            <a:ext cx="54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rculaneum: Casa del Tramezzo di Le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8026560" cy="49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mpluv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64520" y="609588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mpeji: Casa di Lucrezio F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93880" y="1143000"/>
            <a:ext cx="735624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au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5638680"/>
            <a:ext cx="533160" cy="3049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5181480"/>
            <a:ext cx="381240" cy="3049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6095880"/>
            <a:ext cx="381240" cy="3049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3301920" cy="49528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au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560" y="60958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mpeji: Casa di Loreio Tibur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7696080" cy="50036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Fau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560" y="60958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mpeji: Casa di Loreio Tibur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ubi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5029200"/>
            <a:ext cx="609480" cy="3049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6248520"/>
            <a:ext cx="609480" cy="30456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143000" y="1139760"/>
            <a:ext cx="7391520" cy="49341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Cub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70760" y="6095880"/>
            <a:ext cx="54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rculaneum: Casa del Tramezzo di Le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omus = das Haus??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4572000" cy="3232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495680" cy="3232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960" y="12193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mus, domus f.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4320" y="1219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6800" y="12193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572000" y="1219320"/>
            <a:ext cx="457200" cy="22860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029200"/>
            <a:ext cx="304920" cy="3049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248520"/>
            <a:ext cx="304920" cy="30456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181480" y="1523880"/>
            <a:ext cx="457200" cy="22860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bli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5562720"/>
            <a:ext cx="381240" cy="45720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bli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0760" y="6095880"/>
            <a:ext cx="54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erculaneum: Casa del Tramezzo di Le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276200" y="1143000"/>
            <a:ext cx="695340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pothe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324480"/>
            <a:ext cx="381240" cy="22860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978280" y="1143000"/>
            <a:ext cx="318744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nd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952880" y="6095880"/>
            <a:ext cx="457200" cy="15264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746440" y="1143000"/>
            <a:ext cx="4473360" cy="5715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omus mit Perist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5943600"/>
            <a:ext cx="4800600" cy="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5257800"/>
            <a:ext cx="1143000" cy="12193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924680" cy="4849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st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45600" y="62326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sa dei V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84080" y="1143000"/>
            <a:ext cx="7575840" cy="51037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st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22520" y="62485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sa di Menan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47640" y="1143000"/>
            <a:ext cx="7848720" cy="51786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trium tetrasty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57960" y="6243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sa delle Nozze d</a:t>
            </a:r>
            <a:r>
              <a:rPr b="0" lang="de-DE" sz="2000" spc="-1" strike="noStrike">
                <a:solidFill>
                  <a:srgbClr val="000000"/>
                </a:solidFill>
                <a:latin typeface="Lucida Grande"/>
              </a:rPr>
              <a:t>'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g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47600" y="1143000"/>
            <a:ext cx="7047000" cy="519732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trium tetrasty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57960" y="6243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sa delle Nozze d</a:t>
            </a:r>
            <a:r>
              <a:rPr b="0" lang="de-DE" sz="2000" spc="-1" strike="noStrike">
                <a:solidFill>
                  <a:srgbClr val="000000"/>
                </a:solidFill>
                <a:latin typeface="Lucida Grande"/>
              </a:rPr>
              <a:t>'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g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s ist ein Römer und seine Frau aus Pompe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08160" y="1143000"/>
            <a:ext cx="4927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704960" y="1143000"/>
            <a:ext cx="5734080" cy="5122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st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57960" y="6243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sa delle Nozze d</a:t>
            </a:r>
            <a:r>
              <a:rPr b="0" lang="de-DE" sz="2000" spc="-1" strike="noStrike">
                <a:solidFill>
                  <a:srgbClr val="000000"/>
                </a:solidFill>
                <a:latin typeface="Lucida Grande"/>
              </a:rPr>
              <a:t>'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g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23960" y="1143000"/>
            <a:ext cx="7696080" cy="50594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st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57960" y="6243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sa delle Nozze d</a:t>
            </a:r>
            <a:r>
              <a:rPr b="0" lang="de-DE" sz="2000" spc="-1" strike="noStrike">
                <a:solidFill>
                  <a:srgbClr val="000000"/>
                </a:solidFill>
                <a:latin typeface="Lucida Grande"/>
              </a:rPr>
              <a:t>'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g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746440" y="1143000"/>
            <a:ext cx="4473360" cy="5715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omus mit Perist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943600"/>
            <a:ext cx="4800600" cy="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5257800"/>
            <a:ext cx="1143000" cy="1219320"/>
          </a:xfrm>
          <a:prstGeom prst="rect">
            <a:avLst/>
          </a:prstGeom>
          <a:noFill/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7772400" cy="51339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eristyl – Cub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57960" y="6243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sa delle Nozze d</a:t>
            </a:r>
            <a:r>
              <a:rPr b="0" lang="de-DE" sz="2000" spc="-1" strike="noStrike">
                <a:solidFill>
                  <a:srgbClr val="000000"/>
                </a:solidFill>
                <a:latin typeface="Lucida Grande"/>
              </a:rPr>
              <a:t>'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g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874960" y="1143000"/>
            <a:ext cx="3394080" cy="51055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eristyl – Tricli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57960" y="624348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sa delle Nozze d</a:t>
            </a:r>
            <a:r>
              <a:rPr b="0" lang="de-DE" sz="2000" spc="-1" strike="noStrike">
                <a:solidFill>
                  <a:srgbClr val="000000"/>
                </a:solidFill>
                <a:latin typeface="Lucida Grande"/>
              </a:rPr>
              <a:t>'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g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93720" y="1143000"/>
            <a:ext cx="7755120" cy="50720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Garten – Tricli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89680" y="624852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lla di Fabio Ru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108160" y="1143000"/>
            <a:ext cx="4927680" cy="563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762120"/>
            <a:ext cx="8915400" cy="70380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wiefern passt dieses Bild zu dem angesprochenen Thema „domus = Haus“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562360" y="2514600"/>
            <a:ext cx="1904760" cy="2438280"/>
          </a:xfrm>
          <a:prstGeom prst="line">
            <a:avLst/>
          </a:prstGeom>
          <a:ln w="5724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86600" y="3048120"/>
            <a:ext cx="18288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f7f7f7"/>
                </a:solidFill>
                <a:latin typeface="Arial"/>
              </a:rPr>
              <a:t>liber = Bu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35040" y="1143000"/>
            <a:ext cx="6072120" cy="4546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d das ist mit Garantie ein Schweizer aus dem 21. J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334120"/>
            <a:ext cx="1981080" cy="1523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762120"/>
            <a:ext cx="8915400" cy="70380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e drei haben ihren Erfahrungshintergrund, den sie mit Wörtern verbin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812000" y="5334120"/>
            <a:ext cx="1332000" cy="152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1981080"/>
            <a:ext cx="4267440" cy="2819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981080"/>
            <a:ext cx="4267440" cy="281952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371600" y="48006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229600" y="48006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ür den Schweizer ist dies sicher ein H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95280" y="1981080"/>
            <a:ext cx="22291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 auch das sind für ihn Häus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V="1">
            <a:off x="82296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5546880"/>
            <a:ext cx="1752480" cy="1311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II Das italische H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762120"/>
            <a:ext cx="8915400" cy="398880"/>
          </a:xfrm>
          <a:prstGeom prst="rect">
            <a:avLst/>
          </a:prstGeom>
          <a:solidFill>
            <a:srgbClr val="f71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 auch das fällt für ihn unter den Begriff „Haus“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945560" y="5486400"/>
            <a:ext cx="119844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905120"/>
            <a:ext cx="4267440" cy="31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f71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143000" y="5029200"/>
            <a:ext cx="0" cy="533520"/>
          </a:xfrm>
          <a:prstGeom prst="line">
            <a:avLst/>
          </a:prstGeom>
          <a:ln w="38160">
            <a:solidFill>
              <a:srgbClr val="f71b1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23:10:05Z</dcterms:created>
  <dc:creator>Admin Informatik</dc:creator>
  <dc:description/>
  <dc:language>en-US</dc:language>
  <cp:lastModifiedBy>Theo Wirth</cp:lastModifiedBy>
  <dcterms:modified xsi:type="dcterms:W3CDTF">2004-11-03T20:31:33Z</dcterms:modified>
  <cp:revision>195</cp:revision>
  <dc:subject/>
  <dc:title>XIX Fluchtgedanken</dc:title>
</cp:coreProperties>
</file>